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2CFBF6-1391-442B-B00A-486F76315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ocrinológico:  vasodilatación debdio a la alteración del tono vascular y la hipovolemia mediada por déficit de aldosterona. NO claro el papel en el mixedema  (derrme pericárdico??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FILAXIA: triptasa sé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patasa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 choque tóxicos: fiebre, hipotensión, hallazgos cutáneos. Escalofrios, mialgias, dolor de cabeza, fatiga, vomitos…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ocitosis: liberación masiva de mediadores de mastocitos. Sincope, colapso vascular, anafilax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ocrinológico:  vasodilatación debdio a la alteración del tono vascular y la hipovolemia mediada por déficit de aldosterona. NO claro el papel en el mixedema  (derrme pericárdico??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 cree  que  el  síndrome  se  debe  a  una  respuesta  exagerada  ante  cambios  inflamatorios, esto  se  ha  atribuido  a  defectos  genéticos  dentro  del  endotelio  que  se  han  estudiado  en ratones  y  que  predisponen  a  una  ruptura  acelerada  de  la  barrera  vascular  lo  que  hace  al huésped  más susceptible  a  desarrollar 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ucotrienos: a partir del ácido araquidónico en los leucoc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POVOLEMIA: intensa astenia, hipotensión oligur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STICIAL EDEMA: mialgias, nauseas y vómitios, dolor abdominal, edemas, parestes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MOCONCENTRACIÓN: elevación HB Y H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ides: albumina. Costosos y su eficacia se reduce en estos pacientes porque las proteínas con un peso molecular &lt; 200 kilodaltons se escapan del espacio intravascular al intersticial durante la trasvas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 lkm: anti microsomales de hígado y riñ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 21 hidroxilasa: corte suprarre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3C0B9-05FD-4979-B0E2-036E0494DD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3A799-B7E1-479C-9813-1B237FEBEF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3FB06-7022-4E3D-B697-47A7E59B0E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C6E82-962A-413B-8154-68A7FBD6CD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D6AA3-7A13-49DA-882F-C769ECE4D3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EED37-86FD-4F8F-A5AD-FC6E0DDD42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138FA-88A9-4BEE-B7C2-2A6003A9D8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21AEC-766A-428A-8DF5-81CAA5734E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1FBA5-4124-4FA2-9807-3EDB3FB93F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1626F-8606-4713-B66D-57F61674E6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6B313-C043-4A64-ACBF-5EE3143D24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F1E15-ED9A-4565-91DB-7F2CE18FB6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E4F90-012F-49A5-B80F-18BB6BD038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A6CED-937E-45B3-9A64-0B3299656F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C0CB7-79BF-48EA-B5A4-541F1BF6F9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6AAF6-8D5D-49FF-85A0-A3A8BD40EF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C7366-5AE2-40E2-A947-E141806CFC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7E9F0-85DA-4AE0-9AA4-74B46C5184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49281-5685-4FD0-8CA7-C08D058C00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88C1F-0110-4692-9A34-AD52D256AD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20E04-3D13-4415-9EDA-5EF9DFAE85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AC766-806A-47AA-9422-BB7012068D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9D4BC-9A82-4601-876F-64C1B18A91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B9DF6-A28A-404D-9EBD-D6F0D4BCBF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12600">
            <a:noFill/>
          </a:ln>
        </p:spPr>
        <p:txBody>
          <a:bodyPr lIns="45720" rIns="45720" tIns="45000" bIns="450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  <a:ea typeface="Calibri Light"/>
              </a:rPr>
              <a:t>Texto del título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3602160"/>
            <a:ext cx="9143640" cy="1655280"/>
          </a:xfrm>
          <a:prstGeom prst="rect">
            <a:avLst/>
          </a:prstGeom>
          <a:noFill/>
          <a:ln w="12600">
            <a:noFill/>
          </a:ln>
        </p:spPr>
        <p:txBody>
          <a:bodyPr lIns="45720" rIns="45720" tIns="45000" bIns="450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ivel de texto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ivel de texto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ivel de texto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ivel de texto 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ivel de texto 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1095200" y="6414840"/>
            <a:ext cx="258120" cy="248040"/>
          </a:xfrm>
          <a:prstGeom prst="rect">
            <a:avLst/>
          </a:prstGeom>
          <a:noFill/>
          <a:ln w="1260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1260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Calibri Light"/>
              </a:rPr>
              <a:t>Texto del títul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12600">
            <a:noFill/>
          </a:ln>
        </p:spPr>
        <p:txBody>
          <a:bodyPr lIns="45720" rIns="45720" tIns="45000" bIns="45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ivel de texto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ivel de texto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4440" indent="-320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ivel de texto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272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ivel de texto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844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ivel de texto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11095200" y="6414840"/>
            <a:ext cx="258120" cy="248040"/>
          </a:xfrm>
          <a:prstGeom prst="rect">
            <a:avLst/>
          </a:prstGeom>
          <a:noFill/>
          <a:ln w="1260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s://www-uptodate-com.bvsspa.idm.oclc.org/contents/idiopathic-systemic-capillary-leak-syndrome?search=sindrome%20fuca%20capilar&amp;source=search_result&amp;selectedTitle=1~145&amp;usage_type=default&amp;display_rank=1" TargetMode="External"/><Relationship Id="rId2" Type="http://schemas.openxmlformats.org/officeDocument/2006/relationships/hyperlink" Target="https://www-uptodate-com.bvsspa.idm.oclc.org/contents/idiopathic-systemic-capillary-leak-syndrome?search=sindrome%20fuca%20capilar&amp;source=search_result&amp;selectedTitle=1~145&amp;usage_type=default&amp;display_rank=1" TargetMode="External"/><Relationship Id="rId3" Type="http://schemas.openxmlformats.org/officeDocument/2006/relationships/hyperlink" Target="https://www-uptodate-com.bvsspa.idm.oclc.org/contents/idiopathic-systemic-capillary-leak-syndrome?search=sindrome%20fuca%20capilar&amp;source=search_result&amp;selectedTitle=1~145&amp;usage_type=default&amp;display_rank=1" TargetMode="External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agen 3" descr="Imagen 3"/>
          <p:cNvPicPr/>
          <p:nvPr/>
        </p:nvPicPr>
        <p:blipFill>
          <a:blip r:embed="rId1"/>
          <a:stretch/>
        </p:blipFill>
        <p:spPr>
          <a:xfrm>
            <a:off x="301680" y="4110840"/>
            <a:ext cx="4473000" cy="2437200"/>
          </a:xfrm>
          <a:prstGeom prst="rect">
            <a:avLst/>
          </a:prstGeom>
          <a:ln w="1270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9143640" cy="2387160"/>
          </a:xfrm>
          <a:prstGeom prst="rect">
            <a:avLst/>
          </a:prstGeom>
          <a:noFill/>
          <a:ln w="12600">
            <a:noFill/>
          </a:ln>
        </p:spPr>
        <p:txBody>
          <a:bodyPr lIns="45720" rIns="45720" tIns="45000" bIns="450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  <a:ea typeface="Calibri Light"/>
              </a:rPr>
              <a:t>UN CASO DE 500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538360" y="4773240"/>
            <a:ext cx="9143640" cy="1655280"/>
          </a:xfrm>
          <a:prstGeom prst="rect">
            <a:avLst/>
          </a:prstGeom>
          <a:noFill/>
          <a:ln w="12600">
            <a:noFill/>
          </a:ln>
        </p:spPr>
        <p:txBody>
          <a:bodyPr lIns="45720" rIns="45720" tIns="45000" bIns="45000"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RA SARA PÉREZ MOY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FEA UGC MEDICINA INTERN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ESPECIALIDADES MÉDICAS Y CUIDADOS PALIA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Picture 2"/>
          <p:cNvPicPr/>
          <p:nvPr/>
        </p:nvPicPr>
        <p:blipFill>
          <a:blip r:embed="rId2"/>
          <a:stretch/>
        </p:blipFill>
        <p:spPr>
          <a:xfrm>
            <a:off x="166320" y="186120"/>
            <a:ext cx="2882880" cy="1461960"/>
          </a:xfrm>
          <a:prstGeom prst="rect">
            <a:avLst/>
          </a:prstGeom>
          <a:ln w="12700">
            <a:noFill/>
          </a:ln>
        </p:spPr>
      </p:pic>
      <p:pic>
        <p:nvPicPr>
          <p:cNvPr id="88" name="Imagen 5" descr="Imagen 5"/>
          <p:cNvPicPr/>
          <p:nvPr/>
        </p:nvPicPr>
        <p:blipFill>
          <a:blip r:embed="rId3"/>
          <a:stretch/>
        </p:blipFill>
        <p:spPr>
          <a:xfrm>
            <a:off x="9142560" y="186120"/>
            <a:ext cx="2882880" cy="1461960"/>
          </a:xfrm>
          <a:prstGeom prst="rect">
            <a:avLst/>
          </a:prstGeom>
          <a:ln w="1270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12600">
            <a:noFill/>
          </a:ln>
        </p:spPr>
        <p:txBody>
          <a:bodyPr lIns="45720" rIns="45720" tIns="45000" bIns="450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Calibri Light"/>
              </a:rPr>
              <a:t>DIAGNOSTICO DIFERENCIAL SHO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CuadroTexto 5"/>
          <p:cNvSpPr/>
          <p:nvPr/>
        </p:nvSpPr>
        <p:spPr>
          <a:xfrm>
            <a:off x="457560" y="1873800"/>
            <a:ext cx="2908440" cy="14612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ARDIOGÉ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ardiomiopat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rritm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Mecánico (EA, IM, rotura músculos papilares…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uadroTexto 6"/>
          <p:cNvSpPr/>
          <p:nvPr/>
        </p:nvSpPr>
        <p:spPr>
          <a:xfrm>
            <a:off x="4195080" y="1734480"/>
            <a:ext cx="2496600" cy="11869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HIPOVOLÉ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Hemorrág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o hemorrá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CuadroTexto 7"/>
          <p:cNvSpPr/>
          <p:nvPr/>
        </p:nvSpPr>
        <p:spPr>
          <a:xfrm>
            <a:off x="7623000" y="1734480"/>
            <a:ext cx="3684960" cy="48445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ISTRIBU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RIS (pancreatitis, quemaduras, traumas, embolismos:  aéreo, graso; sd fuga capilar…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nafilaxia, mastocitosis sistem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eurogénico: lesión cerebral  y médula espi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ndocrinológico:  crisis addisoniana, mixedem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edicament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Multiplicación 9"/>
          <p:cNvSpPr/>
          <p:nvPr/>
        </p:nvSpPr>
        <p:spPr>
          <a:xfrm>
            <a:off x="1349640" y="2504160"/>
            <a:ext cx="444960" cy="391680"/>
          </a:xfrm>
          <a:custGeom>
            <a:avLst/>
            <a:gdLst>
              <a:gd name="textAreaLeft" fmla="*/ 0 w 444960"/>
              <a:gd name="textAreaRight" fmla="*/ 445320 w 444960"/>
              <a:gd name="textAreaTop" fmla="*/ 0 h 391680"/>
              <a:gd name="textAreaBottom" fmla="*/ 392040 h 391680"/>
            </a:gdLst>
            <a:ahLst/>
            <a:rect l="textAreaLeft" t="textAreaTop" r="textAreaRight" b="textAreaBottom"/>
            <a:pathLst>
              <a:path w="21600" h="21600">
                <a:moveTo>
                  <a:pt x="0" y="5649"/>
                </a:moveTo>
                <a:lnTo>
                  <a:pt x="3958" y="0"/>
                </a:lnTo>
                <a:lnTo>
                  <a:pt x="10800" y="6186"/>
                </a:lnTo>
                <a:lnTo>
                  <a:pt x="17642" y="0"/>
                </a:lnTo>
                <a:lnTo>
                  <a:pt x="21600" y="5649"/>
                </a:lnTo>
                <a:lnTo>
                  <a:pt x="15903" y="10800"/>
                </a:lnTo>
                <a:lnTo>
                  <a:pt x="21600" y="15951"/>
                </a:lnTo>
                <a:lnTo>
                  <a:pt x="17642" y="21600"/>
                </a:lnTo>
                <a:lnTo>
                  <a:pt x="10800" y="15414"/>
                </a:lnTo>
                <a:lnTo>
                  <a:pt x="3958" y="21600"/>
                </a:lnTo>
                <a:lnTo>
                  <a:pt x="0" y="15951"/>
                </a:lnTo>
                <a:lnTo>
                  <a:pt x="5697" y="10800"/>
                </a:lnTo>
                <a:close/>
              </a:path>
            </a:pathLst>
          </a:custGeom>
          <a:solidFill>
            <a:schemeClr val="accent1"/>
          </a:solidFill>
          <a:ln w="12700">
            <a:solidFill>
              <a:srgbClr val="325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Calibri"/>
            </a:endParaRPr>
          </a:p>
        </p:txBody>
      </p:sp>
      <p:sp>
        <p:nvSpPr>
          <p:cNvPr id="126" name="CuadroTexto 10"/>
          <p:cNvSpPr/>
          <p:nvPr/>
        </p:nvSpPr>
        <p:spPr>
          <a:xfrm>
            <a:off x="270720" y="3804480"/>
            <a:ext cx="2806200" cy="9126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OBSTRUCTIV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Valvulopatía pulmo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Mecá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Multiplicación 12"/>
          <p:cNvSpPr/>
          <p:nvPr/>
        </p:nvSpPr>
        <p:spPr>
          <a:xfrm>
            <a:off x="1313280" y="4070160"/>
            <a:ext cx="444960" cy="391680"/>
          </a:xfrm>
          <a:custGeom>
            <a:avLst/>
            <a:gdLst>
              <a:gd name="textAreaLeft" fmla="*/ 0 w 444960"/>
              <a:gd name="textAreaRight" fmla="*/ 445320 w 444960"/>
              <a:gd name="textAreaTop" fmla="*/ 0 h 391680"/>
              <a:gd name="textAreaBottom" fmla="*/ 392040 h 391680"/>
            </a:gdLst>
            <a:ahLst/>
            <a:rect l="textAreaLeft" t="textAreaTop" r="textAreaRight" b="textAreaBottom"/>
            <a:pathLst>
              <a:path w="21600" h="21600">
                <a:moveTo>
                  <a:pt x="0" y="5649"/>
                </a:moveTo>
                <a:lnTo>
                  <a:pt x="3958" y="0"/>
                </a:lnTo>
                <a:lnTo>
                  <a:pt x="10800" y="6186"/>
                </a:lnTo>
                <a:lnTo>
                  <a:pt x="17642" y="0"/>
                </a:lnTo>
                <a:lnTo>
                  <a:pt x="21600" y="5649"/>
                </a:lnTo>
                <a:lnTo>
                  <a:pt x="15903" y="10800"/>
                </a:lnTo>
                <a:lnTo>
                  <a:pt x="21600" y="15951"/>
                </a:lnTo>
                <a:lnTo>
                  <a:pt x="17642" y="21600"/>
                </a:lnTo>
                <a:lnTo>
                  <a:pt x="10800" y="15414"/>
                </a:lnTo>
                <a:lnTo>
                  <a:pt x="3958" y="21600"/>
                </a:lnTo>
                <a:lnTo>
                  <a:pt x="0" y="15951"/>
                </a:lnTo>
                <a:lnTo>
                  <a:pt x="5697" y="10800"/>
                </a:lnTo>
                <a:close/>
              </a:path>
            </a:pathLst>
          </a:custGeom>
          <a:solidFill>
            <a:schemeClr val="accent1"/>
          </a:solidFill>
          <a:ln w="12700">
            <a:solidFill>
              <a:srgbClr val="325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Calibri"/>
            </a:endParaRPr>
          </a:p>
        </p:txBody>
      </p:sp>
      <p:sp>
        <p:nvSpPr>
          <p:cNvPr id="128" name="Multiplicación 13"/>
          <p:cNvSpPr/>
          <p:nvPr/>
        </p:nvSpPr>
        <p:spPr>
          <a:xfrm>
            <a:off x="5036400" y="2215080"/>
            <a:ext cx="444960" cy="391680"/>
          </a:xfrm>
          <a:custGeom>
            <a:avLst/>
            <a:gdLst>
              <a:gd name="textAreaLeft" fmla="*/ 0 w 444960"/>
              <a:gd name="textAreaRight" fmla="*/ 445320 w 444960"/>
              <a:gd name="textAreaTop" fmla="*/ 0 h 391680"/>
              <a:gd name="textAreaBottom" fmla="*/ 392040 h 391680"/>
            </a:gdLst>
            <a:ahLst/>
            <a:rect l="textAreaLeft" t="textAreaTop" r="textAreaRight" b="textAreaBottom"/>
            <a:pathLst>
              <a:path w="21600" h="21600">
                <a:moveTo>
                  <a:pt x="0" y="5649"/>
                </a:moveTo>
                <a:lnTo>
                  <a:pt x="3958" y="0"/>
                </a:lnTo>
                <a:lnTo>
                  <a:pt x="10800" y="6186"/>
                </a:lnTo>
                <a:lnTo>
                  <a:pt x="17642" y="0"/>
                </a:lnTo>
                <a:lnTo>
                  <a:pt x="21600" y="5649"/>
                </a:lnTo>
                <a:lnTo>
                  <a:pt x="15903" y="10800"/>
                </a:lnTo>
                <a:lnTo>
                  <a:pt x="21600" y="15951"/>
                </a:lnTo>
                <a:lnTo>
                  <a:pt x="17642" y="21600"/>
                </a:lnTo>
                <a:lnTo>
                  <a:pt x="10800" y="15414"/>
                </a:lnTo>
                <a:lnTo>
                  <a:pt x="3958" y="21600"/>
                </a:lnTo>
                <a:lnTo>
                  <a:pt x="0" y="15951"/>
                </a:lnTo>
                <a:lnTo>
                  <a:pt x="5697" y="10800"/>
                </a:lnTo>
                <a:close/>
              </a:path>
            </a:pathLst>
          </a:custGeom>
          <a:solidFill>
            <a:schemeClr val="accent1"/>
          </a:solidFill>
          <a:ln w="12700">
            <a:solidFill>
              <a:srgbClr val="325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Calibri"/>
            </a:endParaRPr>
          </a:p>
        </p:txBody>
      </p:sp>
      <p:sp>
        <p:nvSpPr>
          <p:cNvPr id="129" name="Multiplicación 11"/>
          <p:cNvSpPr/>
          <p:nvPr/>
        </p:nvSpPr>
        <p:spPr>
          <a:xfrm>
            <a:off x="8892720" y="4885560"/>
            <a:ext cx="444960" cy="391680"/>
          </a:xfrm>
          <a:custGeom>
            <a:avLst/>
            <a:gdLst>
              <a:gd name="textAreaLeft" fmla="*/ 0 w 444960"/>
              <a:gd name="textAreaRight" fmla="*/ 445320 w 444960"/>
              <a:gd name="textAreaTop" fmla="*/ 0 h 391680"/>
              <a:gd name="textAreaBottom" fmla="*/ 392040 h 391680"/>
            </a:gdLst>
            <a:ahLst/>
            <a:rect l="textAreaLeft" t="textAreaTop" r="textAreaRight" b="textAreaBottom"/>
            <a:pathLst>
              <a:path w="21600" h="21600">
                <a:moveTo>
                  <a:pt x="0" y="5649"/>
                </a:moveTo>
                <a:lnTo>
                  <a:pt x="3958" y="0"/>
                </a:lnTo>
                <a:lnTo>
                  <a:pt x="10800" y="6186"/>
                </a:lnTo>
                <a:lnTo>
                  <a:pt x="17642" y="0"/>
                </a:lnTo>
                <a:lnTo>
                  <a:pt x="21600" y="5649"/>
                </a:lnTo>
                <a:lnTo>
                  <a:pt x="15903" y="10800"/>
                </a:lnTo>
                <a:lnTo>
                  <a:pt x="21600" y="15951"/>
                </a:lnTo>
                <a:lnTo>
                  <a:pt x="17642" y="21600"/>
                </a:lnTo>
                <a:lnTo>
                  <a:pt x="10800" y="15414"/>
                </a:lnTo>
                <a:lnTo>
                  <a:pt x="3958" y="21600"/>
                </a:lnTo>
                <a:lnTo>
                  <a:pt x="0" y="15951"/>
                </a:lnTo>
                <a:lnTo>
                  <a:pt x="5697" y="10800"/>
                </a:lnTo>
                <a:close/>
              </a:path>
            </a:pathLst>
          </a:custGeom>
          <a:solidFill>
            <a:schemeClr val="accent1"/>
          </a:solidFill>
          <a:ln w="12700">
            <a:solidFill>
              <a:srgbClr val="325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Calibri"/>
            </a:endParaRPr>
          </a:p>
        </p:txBody>
      </p:sp>
      <p:sp>
        <p:nvSpPr>
          <p:cNvPr id="130" name="Multiplicación 14"/>
          <p:cNvSpPr/>
          <p:nvPr/>
        </p:nvSpPr>
        <p:spPr>
          <a:xfrm>
            <a:off x="9116640" y="5658120"/>
            <a:ext cx="444960" cy="391680"/>
          </a:xfrm>
          <a:custGeom>
            <a:avLst/>
            <a:gdLst>
              <a:gd name="textAreaLeft" fmla="*/ 0 w 444960"/>
              <a:gd name="textAreaRight" fmla="*/ 445320 w 444960"/>
              <a:gd name="textAreaTop" fmla="*/ 0 h 391680"/>
              <a:gd name="textAreaBottom" fmla="*/ 392040 h 391680"/>
            </a:gdLst>
            <a:ahLst/>
            <a:rect l="textAreaLeft" t="textAreaTop" r="textAreaRight" b="textAreaBottom"/>
            <a:pathLst>
              <a:path w="21600" h="21600">
                <a:moveTo>
                  <a:pt x="0" y="5649"/>
                </a:moveTo>
                <a:lnTo>
                  <a:pt x="3958" y="0"/>
                </a:lnTo>
                <a:lnTo>
                  <a:pt x="10800" y="6186"/>
                </a:lnTo>
                <a:lnTo>
                  <a:pt x="17642" y="0"/>
                </a:lnTo>
                <a:lnTo>
                  <a:pt x="21600" y="5649"/>
                </a:lnTo>
                <a:lnTo>
                  <a:pt x="15903" y="10800"/>
                </a:lnTo>
                <a:lnTo>
                  <a:pt x="21600" y="15951"/>
                </a:lnTo>
                <a:lnTo>
                  <a:pt x="17642" y="21600"/>
                </a:lnTo>
                <a:lnTo>
                  <a:pt x="10800" y="15414"/>
                </a:lnTo>
                <a:lnTo>
                  <a:pt x="3958" y="21600"/>
                </a:lnTo>
                <a:lnTo>
                  <a:pt x="0" y="15951"/>
                </a:lnTo>
                <a:lnTo>
                  <a:pt x="5697" y="10800"/>
                </a:lnTo>
                <a:close/>
              </a:path>
            </a:pathLst>
          </a:custGeom>
          <a:solidFill>
            <a:schemeClr val="accent1"/>
          </a:solidFill>
          <a:ln w="12700">
            <a:solidFill>
              <a:srgbClr val="325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iterate type="el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iterate type="el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iterate type="el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iterate type="el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iterate type="el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12600">
            <a:noFill/>
          </a:ln>
        </p:spPr>
        <p:txBody>
          <a:bodyPr lIns="45720" rIns="45720" tIns="45000" bIns="450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Calibri Light"/>
              </a:rPr>
              <a:t>EN RESUMEN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Elipse 4"/>
          <p:cNvGrpSpPr/>
          <p:nvPr/>
        </p:nvGrpSpPr>
        <p:grpSpPr>
          <a:xfrm>
            <a:off x="685800" y="2157480"/>
            <a:ext cx="4109760" cy="914040"/>
            <a:chOff x="685800" y="2157480"/>
            <a:chExt cx="4109760" cy="914040"/>
          </a:xfrm>
        </p:grpSpPr>
        <p:sp>
          <p:nvSpPr>
            <p:cNvPr id="133" name="Óvalo"/>
            <p:cNvSpPr/>
            <p:nvPr/>
          </p:nvSpPr>
          <p:spPr>
            <a:xfrm>
              <a:off x="685800" y="2157480"/>
              <a:ext cx="4109760" cy="91404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45720" rIns="45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Calibri"/>
              </a:endParaRPr>
            </a:p>
          </p:txBody>
        </p:sp>
        <p:sp>
          <p:nvSpPr>
            <p:cNvPr id="134" name="HIPOALBUMINEMIA"/>
            <p:cNvSpPr/>
            <p:nvPr/>
          </p:nvSpPr>
          <p:spPr>
            <a:xfrm>
              <a:off x="1339920" y="2431800"/>
              <a:ext cx="2801880" cy="36504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45720" rIns="457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HIPOALBUMINEM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Elipse 5"/>
          <p:cNvGrpSpPr/>
          <p:nvPr/>
        </p:nvGrpSpPr>
        <p:grpSpPr>
          <a:xfrm>
            <a:off x="685800" y="3914640"/>
            <a:ext cx="4157280" cy="828360"/>
            <a:chOff x="685800" y="3914640"/>
            <a:chExt cx="4157280" cy="828360"/>
          </a:xfrm>
        </p:grpSpPr>
        <p:sp>
          <p:nvSpPr>
            <p:cNvPr id="136" name="Óvalo"/>
            <p:cNvSpPr/>
            <p:nvPr/>
          </p:nvSpPr>
          <p:spPr>
            <a:xfrm>
              <a:off x="685800" y="3914640"/>
              <a:ext cx="4157280" cy="828360"/>
            </a:xfrm>
            <a:prstGeom prst="ellipse">
              <a:avLst/>
            </a:prstGeom>
            <a:solidFill>
              <a:srgbClr val="c9c9c9"/>
            </a:solidFill>
            <a:ln w="127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45720" rIns="45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Calibri"/>
              </a:endParaRPr>
            </a:p>
          </p:txBody>
        </p:sp>
        <p:sp>
          <p:nvSpPr>
            <p:cNvPr id="137" name="HEMOCONCENTRACIÓN"/>
            <p:cNvSpPr/>
            <p:nvPr/>
          </p:nvSpPr>
          <p:spPr>
            <a:xfrm>
              <a:off x="1346760" y="4146480"/>
              <a:ext cx="2835360" cy="36504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45720" rIns="457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3b3838"/>
                  </a:solidFill>
                  <a:latin typeface="Calibri"/>
                  <a:ea typeface="Calibri"/>
                </a:rPr>
                <a:t>HEMOCONCENTR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Elipse 6"/>
          <p:cNvGrpSpPr/>
          <p:nvPr/>
        </p:nvGrpSpPr>
        <p:grpSpPr>
          <a:xfrm>
            <a:off x="685800" y="5600520"/>
            <a:ext cx="4109760" cy="728280"/>
            <a:chOff x="685800" y="5600520"/>
            <a:chExt cx="4109760" cy="728280"/>
          </a:xfrm>
        </p:grpSpPr>
        <p:sp>
          <p:nvSpPr>
            <p:cNvPr id="139" name="Óvalo"/>
            <p:cNvSpPr/>
            <p:nvPr/>
          </p:nvSpPr>
          <p:spPr>
            <a:xfrm>
              <a:off x="685800" y="5600520"/>
              <a:ext cx="4109760" cy="728280"/>
            </a:xfrm>
            <a:prstGeom prst="ellipse">
              <a:avLst/>
            </a:prstGeom>
            <a:solidFill>
              <a:srgbClr val="b4c7e7"/>
            </a:solidFill>
            <a:ln w="127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45720" rIns="45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Calibri"/>
              </a:endParaRPr>
            </a:p>
          </p:txBody>
        </p:sp>
        <p:sp>
          <p:nvSpPr>
            <p:cNvPr id="140" name="HIPOTENSIÓN"/>
            <p:cNvSpPr/>
            <p:nvPr/>
          </p:nvSpPr>
          <p:spPr>
            <a:xfrm>
              <a:off x="1339920" y="5782320"/>
              <a:ext cx="2801880" cy="36504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45720" rIns="457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3b3838"/>
                  </a:solidFill>
                  <a:latin typeface="Calibri"/>
                  <a:ea typeface="Calibri"/>
                </a:rPr>
                <a:t>HIPOTENS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Elipse 7"/>
          <p:cNvGrpSpPr/>
          <p:nvPr/>
        </p:nvGrpSpPr>
        <p:grpSpPr>
          <a:xfrm>
            <a:off x="1909800" y="1921680"/>
            <a:ext cx="1709280" cy="4814640"/>
            <a:chOff x="1909800" y="1921680"/>
            <a:chExt cx="1709280" cy="4814640"/>
          </a:xfrm>
        </p:grpSpPr>
        <p:sp>
          <p:nvSpPr>
            <p:cNvPr id="142" name="Óvalo"/>
            <p:cNvSpPr/>
            <p:nvPr/>
          </p:nvSpPr>
          <p:spPr>
            <a:xfrm>
              <a:off x="1909800" y="1921680"/>
              <a:ext cx="1709280" cy="4814640"/>
            </a:xfrm>
            <a:prstGeom prst="ellipse">
              <a:avLst/>
            </a:prstGeom>
            <a:solidFill>
              <a:srgbClr val="ff0000"/>
            </a:solidFill>
            <a:ln w="127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45720" rIns="45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Calibri"/>
              </a:endParaRPr>
            </a:p>
          </p:txBody>
        </p:sp>
        <p:sp>
          <p:nvSpPr>
            <p:cNvPr id="143" name="SHOCK…"/>
            <p:cNvSpPr/>
            <p:nvPr/>
          </p:nvSpPr>
          <p:spPr>
            <a:xfrm>
              <a:off x="2212200" y="3871800"/>
              <a:ext cx="1104480" cy="91368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45720" rIns="457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3b3838"/>
                  </a:solidFill>
                  <a:latin typeface="Calibri"/>
                  <a:ea typeface="Calibri"/>
                </a:rPr>
                <a:t>SHO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3b3838"/>
                  </a:solidFill>
                  <a:latin typeface="Calibri"/>
                  <a:ea typeface="Calibri"/>
                </a:rPr>
                <a:t>DISTRIBU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3b3838"/>
                  </a:solidFill>
                  <a:latin typeface="Calibri"/>
                  <a:ea typeface="Calibri"/>
                </a:rPr>
                <a:t>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Elipse 9"/>
          <p:cNvGrpSpPr/>
          <p:nvPr/>
        </p:nvGrpSpPr>
        <p:grpSpPr>
          <a:xfrm>
            <a:off x="7153200" y="1964520"/>
            <a:ext cx="4200120" cy="1213920"/>
            <a:chOff x="7153200" y="1964520"/>
            <a:chExt cx="4200120" cy="1213920"/>
          </a:xfrm>
        </p:grpSpPr>
        <p:sp>
          <p:nvSpPr>
            <p:cNvPr id="145" name="Óvalo"/>
            <p:cNvSpPr/>
            <p:nvPr/>
          </p:nvSpPr>
          <p:spPr>
            <a:xfrm>
              <a:off x="7153200" y="1964520"/>
              <a:ext cx="4200120" cy="1213920"/>
            </a:xfrm>
            <a:prstGeom prst="ellipse">
              <a:avLst/>
            </a:prstGeom>
            <a:solidFill>
              <a:schemeClr val="accent4"/>
            </a:solidFill>
            <a:ln w="127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45720" rIns="45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Calibri"/>
              </a:endParaRPr>
            </a:p>
          </p:txBody>
        </p:sp>
        <p:sp>
          <p:nvSpPr>
            <p:cNvPr id="146" name="EDEMA GENALIZADO"/>
            <p:cNvSpPr/>
            <p:nvPr/>
          </p:nvSpPr>
          <p:spPr>
            <a:xfrm>
              <a:off x="7820640" y="2388960"/>
              <a:ext cx="2865600" cy="36504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45720" rIns="457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3b3838"/>
                  </a:solidFill>
                  <a:latin typeface="Calibri"/>
                  <a:ea typeface="Calibri"/>
                </a:rPr>
                <a:t>EDEMA GENALIZ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Elipse 12"/>
          <p:cNvGrpSpPr/>
          <p:nvPr/>
        </p:nvGrpSpPr>
        <p:grpSpPr>
          <a:xfrm>
            <a:off x="7153200" y="3818160"/>
            <a:ext cx="4200120" cy="1213920"/>
            <a:chOff x="7153200" y="3818160"/>
            <a:chExt cx="4200120" cy="1213920"/>
          </a:xfrm>
        </p:grpSpPr>
        <p:sp>
          <p:nvSpPr>
            <p:cNvPr id="148" name="Óvalo"/>
            <p:cNvSpPr/>
            <p:nvPr/>
          </p:nvSpPr>
          <p:spPr>
            <a:xfrm>
              <a:off x="7153200" y="3818160"/>
              <a:ext cx="4200120" cy="1213920"/>
            </a:xfrm>
            <a:prstGeom prst="ellipse">
              <a:avLst/>
            </a:prstGeom>
            <a:solidFill>
              <a:schemeClr val="accent4"/>
            </a:solidFill>
            <a:ln w="127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45720" rIns="45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Calibri"/>
              </a:endParaRPr>
            </a:p>
          </p:txBody>
        </p:sp>
        <p:sp>
          <p:nvSpPr>
            <p:cNvPr id="149" name="HIPOVOLEMIA"/>
            <p:cNvSpPr/>
            <p:nvPr/>
          </p:nvSpPr>
          <p:spPr>
            <a:xfrm>
              <a:off x="7820640" y="4242960"/>
              <a:ext cx="2865600" cy="36504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45720" rIns="457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3b3838"/>
                  </a:solidFill>
                  <a:latin typeface="Calibri"/>
                  <a:ea typeface="Calibri"/>
                </a:rPr>
                <a:t>HIPOVOLEM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Más 2"/>
          <p:cNvSpPr/>
          <p:nvPr/>
        </p:nvSpPr>
        <p:spPr>
          <a:xfrm>
            <a:off x="5564160" y="3953880"/>
            <a:ext cx="682200" cy="750240"/>
          </a:xfrm>
          <a:custGeom>
            <a:avLst/>
            <a:gdLst>
              <a:gd name="textAreaLeft" fmla="*/ 0 w 682200"/>
              <a:gd name="textAreaRight" fmla="*/ 682560 w 682200"/>
              <a:gd name="textAreaTop" fmla="*/ 0 h 750240"/>
              <a:gd name="textAreaBottom" fmla="*/ 750600 h 750240"/>
            </a:gdLst>
            <a:ahLst/>
            <a:rect l="textAreaLeft" t="textAreaTop" r="textAreaRight" b="textAreaBottom"/>
            <a:pathLst>
              <a:path w="21600" h="21600">
                <a:moveTo>
                  <a:pt x="0" y="7658"/>
                </a:moveTo>
                <a:lnTo>
                  <a:pt x="7344" y="7658"/>
                </a:lnTo>
                <a:lnTo>
                  <a:pt x="7344" y="0"/>
                </a:lnTo>
                <a:lnTo>
                  <a:pt x="14256" y="0"/>
                </a:lnTo>
                <a:lnTo>
                  <a:pt x="14256" y="7658"/>
                </a:lnTo>
                <a:lnTo>
                  <a:pt x="21600" y="7658"/>
                </a:lnTo>
                <a:lnTo>
                  <a:pt x="21600" y="13942"/>
                </a:lnTo>
                <a:lnTo>
                  <a:pt x="14256" y="13942"/>
                </a:lnTo>
                <a:lnTo>
                  <a:pt x="14256" y="21600"/>
                </a:lnTo>
                <a:lnTo>
                  <a:pt x="7344" y="21600"/>
                </a:lnTo>
                <a:lnTo>
                  <a:pt x="7344" y="13942"/>
                </a:lnTo>
                <a:lnTo>
                  <a:pt x="0" y="13942"/>
                </a:lnTo>
                <a:close/>
              </a:path>
            </a:pathLst>
          </a:custGeom>
          <a:solidFill>
            <a:schemeClr val="accent1"/>
          </a:solidFill>
          <a:ln w="12700">
            <a:solidFill>
              <a:srgbClr val="325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iterate type="el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iterate type="el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iterate type="el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9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12600">
            <a:noFill/>
          </a:ln>
        </p:spPr>
        <p:txBody>
          <a:bodyPr lIns="45720" rIns="45720" tIns="45000" bIns="450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Calibri Light"/>
              </a:rPr>
              <a:t>DIAGNÓSTICO DIFERENC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CuadroTexto 3"/>
          <p:cNvSpPr/>
          <p:nvPr/>
        </p:nvSpPr>
        <p:spPr>
          <a:xfrm>
            <a:off x="603000" y="1690560"/>
            <a:ext cx="4808880" cy="14612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EPSIS O SHOCK SÉP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lbum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rocalcitonina 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No fie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ultivos neg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Conector recto de flecha 6"/>
          <p:cNvSpPr/>
          <p:nvPr/>
        </p:nvSpPr>
        <p:spPr>
          <a:xfrm>
            <a:off x="2014200" y="2104200"/>
            <a:ext cx="0" cy="166680"/>
          </a:xfrm>
          <a:prstGeom prst="line">
            <a:avLst/>
          </a:prstGeom>
          <a:ln w="6350">
            <a:solidFill>
              <a:srgbClr val="4472c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154" name="CuadroTexto 8"/>
          <p:cNvSpPr/>
          <p:nvPr/>
        </p:nvSpPr>
        <p:spPr>
          <a:xfrm>
            <a:off x="603000" y="3429000"/>
            <a:ext cx="4808880" cy="14612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D DE CHOQUE TÓXICO RECURRENTE EN MUJE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Lesiones cutáneas: eritrodermia, erupción maculopap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P menstru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uadroTexto 9"/>
          <p:cNvSpPr/>
          <p:nvPr/>
        </p:nvSpPr>
        <p:spPr>
          <a:xfrm>
            <a:off x="603000" y="4890240"/>
            <a:ext cx="4808880" cy="14612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NAFILAX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No AP de toma de medicamentos, alimentos, picadu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riptasa elev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lbumina 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uadroTexto 10"/>
          <p:cNvSpPr/>
          <p:nvPr/>
        </p:nvSpPr>
        <p:spPr>
          <a:xfrm>
            <a:off x="6532200" y="1690560"/>
            <a:ext cx="4237200" cy="14612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MASTOCITOSIS SISTÉMIC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cumulación de mastocitos precipitados por ejercicio, alcohol, estrés, AAS, AINES, opioides, CIV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riptasa elev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uadroTexto 11"/>
          <p:cNvSpPr/>
          <p:nvPr/>
        </p:nvSpPr>
        <p:spPr>
          <a:xfrm>
            <a:off x="6532200" y="3597480"/>
            <a:ext cx="4237200" cy="17355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NGIOEDEMA HEREDI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olescen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Edema cutáneo, TGI, V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fectación cutánea localizada, asimétrica, cara, extremidades, genit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4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onector recto de flecha 13"/>
          <p:cNvSpPr/>
          <p:nvPr/>
        </p:nvSpPr>
        <p:spPr>
          <a:xfrm flipV="1">
            <a:off x="6886440" y="5028480"/>
            <a:ext cx="0" cy="277200"/>
          </a:xfrm>
          <a:prstGeom prst="line">
            <a:avLst/>
          </a:prstGeom>
          <a:ln w="6350">
            <a:solidFill>
              <a:srgbClr val="4472c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159" name="Multiplicación 14"/>
          <p:cNvSpPr/>
          <p:nvPr/>
        </p:nvSpPr>
        <p:spPr>
          <a:xfrm>
            <a:off x="3151080" y="2247840"/>
            <a:ext cx="626760" cy="626760"/>
          </a:xfrm>
          <a:custGeom>
            <a:avLst/>
            <a:gdLst>
              <a:gd name="textAreaLeft" fmla="*/ 0 w 626760"/>
              <a:gd name="textAreaRight" fmla="*/ 627120 w 626760"/>
              <a:gd name="textAreaTop" fmla="*/ 0 h 626760"/>
              <a:gd name="textAreaBottom" fmla="*/ 627120 h 626760"/>
            </a:gdLst>
            <a:ahLst/>
            <a:rect l="textAreaLeft" t="textAreaTop" r="textAreaRight" b="textAreaBottom"/>
            <a:pathLst>
              <a:path w="21600" h="21600">
                <a:moveTo>
                  <a:pt x="0" y="5237"/>
                </a:moveTo>
                <a:lnTo>
                  <a:pt x="5237" y="0"/>
                </a:lnTo>
                <a:lnTo>
                  <a:pt x="10800" y="5563"/>
                </a:lnTo>
                <a:lnTo>
                  <a:pt x="16363" y="0"/>
                </a:lnTo>
                <a:lnTo>
                  <a:pt x="21600" y="5237"/>
                </a:lnTo>
                <a:lnTo>
                  <a:pt x="16037" y="10800"/>
                </a:lnTo>
                <a:lnTo>
                  <a:pt x="21600" y="16363"/>
                </a:lnTo>
                <a:lnTo>
                  <a:pt x="16363" y="21600"/>
                </a:lnTo>
                <a:lnTo>
                  <a:pt x="10800" y="16037"/>
                </a:lnTo>
                <a:lnTo>
                  <a:pt x="5237" y="21600"/>
                </a:lnTo>
                <a:lnTo>
                  <a:pt x="0" y="16363"/>
                </a:lnTo>
                <a:lnTo>
                  <a:pt x="5563" y="10800"/>
                </a:lnTo>
                <a:close/>
              </a:path>
            </a:pathLst>
          </a:custGeom>
          <a:solidFill>
            <a:schemeClr val="accent1"/>
          </a:solidFill>
          <a:ln w="12700">
            <a:solidFill>
              <a:srgbClr val="325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Calibri"/>
            </a:endParaRPr>
          </a:p>
        </p:txBody>
      </p:sp>
      <p:sp>
        <p:nvSpPr>
          <p:cNvPr id="160" name="Multiplicación 17"/>
          <p:cNvSpPr/>
          <p:nvPr/>
        </p:nvSpPr>
        <p:spPr>
          <a:xfrm>
            <a:off x="3151080" y="3572640"/>
            <a:ext cx="626760" cy="626760"/>
          </a:xfrm>
          <a:custGeom>
            <a:avLst/>
            <a:gdLst>
              <a:gd name="textAreaLeft" fmla="*/ 0 w 626760"/>
              <a:gd name="textAreaRight" fmla="*/ 627120 w 626760"/>
              <a:gd name="textAreaTop" fmla="*/ 0 h 626760"/>
              <a:gd name="textAreaBottom" fmla="*/ 627120 h 626760"/>
            </a:gdLst>
            <a:ahLst/>
            <a:rect l="textAreaLeft" t="textAreaTop" r="textAreaRight" b="textAreaBottom"/>
            <a:pathLst>
              <a:path w="21600" h="21600">
                <a:moveTo>
                  <a:pt x="0" y="5237"/>
                </a:moveTo>
                <a:lnTo>
                  <a:pt x="5237" y="0"/>
                </a:lnTo>
                <a:lnTo>
                  <a:pt x="10800" y="5563"/>
                </a:lnTo>
                <a:lnTo>
                  <a:pt x="16363" y="0"/>
                </a:lnTo>
                <a:lnTo>
                  <a:pt x="21600" y="5237"/>
                </a:lnTo>
                <a:lnTo>
                  <a:pt x="16037" y="10800"/>
                </a:lnTo>
                <a:lnTo>
                  <a:pt x="21600" y="16363"/>
                </a:lnTo>
                <a:lnTo>
                  <a:pt x="16363" y="21600"/>
                </a:lnTo>
                <a:lnTo>
                  <a:pt x="10800" y="16037"/>
                </a:lnTo>
                <a:lnTo>
                  <a:pt x="5237" y="21600"/>
                </a:lnTo>
                <a:lnTo>
                  <a:pt x="0" y="16363"/>
                </a:lnTo>
                <a:lnTo>
                  <a:pt x="5563" y="10800"/>
                </a:lnTo>
                <a:close/>
              </a:path>
            </a:pathLst>
          </a:custGeom>
          <a:solidFill>
            <a:schemeClr val="accent1"/>
          </a:solidFill>
          <a:ln w="12700">
            <a:solidFill>
              <a:srgbClr val="325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Calibri"/>
            </a:endParaRPr>
          </a:p>
        </p:txBody>
      </p:sp>
      <p:sp>
        <p:nvSpPr>
          <p:cNvPr id="161" name="Multiplicación 18"/>
          <p:cNvSpPr/>
          <p:nvPr/>
        </p:nvSpPr>
        <p:spPr>
          <a:xfrm>
            <a:off x="3151080" y="5603760"/>
            <a:ext cx="626760" cy="626760"/>
          </a:xfrm>
          <a:custGeom>
            <a:avLst/>
            <a:gdLst>
              <a:gd name="textAreaLeft" fmla="*/ 0 w 626760"/>
              <a:gd name="textAreaRight" fmla="*/ 627120 w 626760"/>
              <a:gd name="textAreaTop" fmla="*/ 0 h 626760"/>
              <a:gd name="textAreaBottom" fmla="*/ 627120 h 626760"/>
            </a:gdLst>
            <a:ahLst/>
            <a:rect l="textAreaLeft" t="textAreaTop" r="textAreaRight" b="textAreaBottom"/>
            <a:pathLst>
              <a:path w="21600" h="21600">
                <a:moveTo>
                  <a:pt x="0" y="5237"/>
                </a:moveTo>
                <a:lnTo>
                  <a:pt x="5237" y="0"/>
                </a:lnTo>
                <a:lnTo>
                  <a:pt x="10800" y="5563"/>
                </a:lnTo>
                <a:lnTo>
                  <a:pt x="16363" y="0"/>
                </a:lnTo>
                <a:lnTo>
                  <a:pt x="21600" y="5237"/>
                </a:lnTo>
                <a:lnTo>
                  <a:pt x="16037" y="10800"/>
                </a:lnTo>
                <a:lnTo>
                  <a:pt x="21600" y="16363"/>
                </a:lnTo>
                <a:lnTo>
                  <a:pt x="16363" y="21600"/>
                </a:lnTo>
                <a:lnTo>
                  <a:pt x="10800" y="16037"/>
                </a:lnTo>
                <a:lnTo>
                  <a:pt x="5237" y="21600"/>
                </a:lnTo>
                <a:lnTo>
                  <a:pt x="0" y="16363"/>
                </a:lnTo>
                <a:lnTo>
                  <a:pt x="5563" y="10800"/>
                </a:lnTo>
                <a:close/>
              </a:path>
            </a:pathLst>
          </a:custGeom>
          <a:solidFill>
            <a:schemeClr val="accent1"/>
          </a:solidFill>
          <a:ln w="12700">
            <a:solidFill>
              <a:srgbClr val="325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Calibri"/>
            </a:endParaRPr>
          </a:p>
        </p:txBody>
      </p:sp>
      <p:sp>
        <p:nvSpPr>
          <p:cNvPr id="162" name="Multiplicación 19"/>
          <p:cNvSpPr/>
          <p:nvPr/>
        </p:nvSpPr>
        <p:spPr>
          <a:xfrm>
            <a:off x="8544600" y="2120040"/>
            <a:ext cx="626760" cy="626760"/>
          </a:xfrm>
          <a:custGeom>
            <a:avLst/>
            <a:gdLst>
              <a:gd name="textAreaLeft" fmla="*/ 0 w 626760"/>
              <a:gd name="textAreaRight" fmla="*/ 627120 w 626760"/>
              <a:gd name="textAreaTop" fmla="*/ 0 h 626760"/>
              <a:gd name="textAreaBottom" fmla="*/ 627120 h 626760"/>
            </a:gdLst>
            <a:ahLst/>
            <a:rect l="textAreaLeft" t="textAreaTop" r="textAreaRight" b="textAreaBottom"/>
            <a:pathLst>
              <a:path w="21600" h="21600">
                <a:moveTo>
                  <a:pt x="0" y="5237"/>
                </a:moveTo>
                <a:lnTo>
                  <a:pt x="5237" y="0"/>
                </a:lnTo>
                <a:lnTo>
                  <a:pt x="10800" y="5563"/>
                </a:lnTo>
                <a:lnTo>
                  <a:pt x="16363" y="0"/>
                </a:lnTo>
                <a:lnTo>
                  <a:pt x="21600" y="5237"/>
                </a:lnTo>
                <a:lnTo>
                  <a:pt x="16037" y="10800"/>
                </a:lnTo>
                <a:lnTo>
                  <a:pt x="21600" y="16363"/>
                </a:lnTo>
                <a:lnTo>
                  <a:pt x="16363" y="21600"/>
                </a:lnTo>
                <a:lnTo>
                  <a:pt x="10800" y="16037"/>
                </a:lnTo>
                <a:lnTo>
                  <a:pt x="5237" y="21600"/>
                </a:lnTo>
                <a:lnTo>
                  <a:pt x="0" y="16363"/>
                </a:lnTo>
                <a:lnTo>
                  <a:pt x="5563" y="10800"/>
                </a:lnTo>
                <a:close/>
              </a:path>
            </a:pathLst>
          </a:custGeom>
          <a:solidFill>
            <a:schemeClr val="accent1"/>
          </a:solidFill>
          <a:ln w="12700">
            <a:solidFill>
              <a:srgbClr val="325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Calibri"/>
            </a:endParaRPr>
          </a:p>
        </p:txBody>
      </p:sp>
      <p:sp>
        <p:nvSpPr>
          <p:cNvPr id="163" name="Multiplicación 20"/>
          <p:cNvSpPr/>
          <p:nvPr/>
        </p:nvSpPr>
        <p:spPr>
          <a:xfrm>
            <a:off x="8544600" y="4258440"/>
            <a:ext cx="626760" cy="626760"/>
          </a:xfrm>
          <a:custGeom>
            <a:avLst/>
            <a:gdLst>
              <a:gd name="textAreaLeft" fmla="*/ 0 w 626760"/>
              <a:gd name="textAreaRight" fmla="*/ 627120 w 626760"/>
              <a:gd name="textAreaTop" fmla="*/ 0 h 626760"/>
              <a:gd name="textAreaBottom" fmla="*/ 627120 h 626760"/>
            </a:gdLst>
            <a:ahLst/>
            <a:rect l="textAreaLeft" t="textAreaTop" r="textAreaRight" b="textAreaBottom"/>
            <a:pathLst>
              <a:path w="21600" h="21600">
                <a:moveTo>
                  <a:pt x="0" y="5237"/>
                </a:moveTo>
                <a:lnTo>
                  <a:pt x="5237" y="0"/>
                </a:lnTo>
                <a:lnTo>
                  <a:pt x="10800" y="5563"/>
                </a:lnTo>
                <a:lnTo>
                  <a:pt x="16363" y="0"/>
                </a:lnTo>
                <a:lnTo>
                  <a:pt x="21600" y="5237"/>
                </a:lnTo>
                <a:lnTo>
                  <a:pt x="16037" y="10800"/>
                </a:lnTo>
                <a:lnTo>
                  <a:pt x="21600" y="16363"/>
                </a:lnTo>
                <a:lnTo>
                  <a:pt x="16363" y="21600"/>
                </a:lnTo>
                <a:lnTo>
                  <a:pt x="10800" y="16037"/>
                </a:lnTo>
                <a:lnTo>
                  <a:pt x="5237" y="21600"/>
                </a:lnTo>
                <a:lnTo>
                  <a:pt x="0" y="16363"/>
                </a:lnTo>
                <a:lnTo>
                  <a:pt x="5563" y="10800"/>
                </a:lnTo>
                <a:close/>
              </a:path>
            </a:pathLst>
          </a:custGeom>
          <a:solidFill>
            <a:schemeClr val="accent1"/>
          </a:solidFill>
          <a:ln w="12700">
            <a:solidFill>
              <a:srgbClr val="325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iterate type="el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5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iterate type="el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iterate type="el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iterate type="el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iterate type="el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12600">
            <a:noFill/>
          </a:ln>
        </p:spPr>
        <p:txBody>
          <a:bodyPr lIns="45720" rIns="45720" tIns="45000" bIns="450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Calibri Light"/>
              </a:rPr>
              <a:t>DIAGNOSTICO DIFERENCIAL SHO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CuadroTexto 7"/>
          <p:cNvSpPr/>
          <p:nvPr/>
        </p:nvSpPr>
        <p:spPr>
          <a:xfrm>
            <a:off x="7623000" y="1687320"/>
            <a:ext cx="3684960" cy="19184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ISTRIBU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RIS (pancreatitis, quemaduras, traumas, embolismos:  aéreo, graso; sd fuga capilar…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12600">
            <a:noFill/>
          </a:ln>
        </p:spPr>
        <p:txBody>
          <a:bodyPr lIns="45720" rIns="45720" tIns="45000" bIns="450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Calibri Light"/>
              </a:rPr>
              <a:t>EN RESUMEN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7" name="Elipse 3"/>
          <p:cNvGrpSpPr/>
          <p:nvPr/>
        </p:nvGrpSpPr>
        <p:grpSpPr>
          <a:xfrm>
            <a:off x="7176960" y="5522040"/>
            <a:ext cx="4200120" cy="1213920"/>
            <a:chOff x="7176960" y="5522040"/>
            <a:chExt cx="4200120" cy="1213920"/>
          </a:xfrm>
        </p:grpSpPr>
        <p:sp>
          <p:nvSpPr>
            <p:cNvPr id="168" name="Óvalo"/>
            <p:cNvSpPr/>
            <p:nvPr/>
          </p:nvSpPr>
          <p:spPr>
            <a:xfrm>
              <a:off x="7176960" y="5522040"/>
              <a:ext cx="4200120" cy="1213920"/>
            </a:xfrm>
            <a:prstGeom prst="ellipse">
              <a:avLst/>
            </a:prstGeom>
            <a:solidFill>
              <a:schemeClr val="accent4"/>
            </a:solidFill>
            <a:ln w="127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45720" rIns="45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Calibri"/>
              </a:endParaRPr>
            </a:p>
          </p:txBody>
        </p:sp>
        <p:sp>
          <p:nvSpPr>
            <p:cNvPr id="169" name="GAMMAPATIA MONOCLONAL IGG"/>
            <p:cNvSpPr/>
            <p:nvPr/>
          </p:nvSpPr>
          <p:spPr>
            <a:xfrm>
              <a:off x="7844400" y="5809680"/>
              <a:ext cx="2865600" cy="63936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45720" rIns="457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3b3838"/>
                  </a:solidFill>
                  <a:latin typeface="Calibri"/>
                  <a:ea typeface="Calibri"/>
                </a:rPr>
                <a:t>GAMMAPATIA MONOCLONAL IG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Elipse 4"/>
          <p:cNvGrpSpPr/>
          <p:nvPr/>
        </p:nvGrpSpPr>
        <p:grpSpPr>
          <a:xfrm>
            <a:off x="685800" y="2157480"/>
            <a:ext cx="4109760" cy="914040"/>
            <a:chOff x="685800" y="2157480"/>
            <a:chExt cx="4109760" cy="914040"/>
          </a:xfrm>
        </p:grpSpPr>
        <p:sp>
          <p:nvSpPr>
            <p:cNvPr id="171" name="Óvalo"/>
            <p:cNvSpPr/>
            <p:nvPr/>
          </p:nvSpPr>
          <p:spPr>
            <a:xfrm>
              <a:off x="685800" y="2157480"/>
              <a:ext cx="4109760" cy="91404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45720" rIns="45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Calibri"/>
              </a:endParaRPr>
            </a:p>
          </p:txBody>
        </p:sp>
        <p:sp>
          <p:nvSpPr>
            <p:cNvPr id="172" name="HIPOALBUMINEMIA"/>
            <p:cNvSpPr/>
            <p:nvPr/>
          </p:nvSpPr>
          <p:spPr>
            <a:xfrm>
              <a:off x="1339920" y="2431800"/>
              <a:ext cx="2801880" cy="36504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45720" rIns="457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HIPOALBUMINEM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Elipse 5"/>
          <p:cNvGrpSpPr/>
          <p:nvPr/>
        </p:nvGrpSpPr>
        <p:grpSpPr>
          <a:xfrm>
            <a:off x="685800" y="3914640"/>
            <a:ext cx="4157280" cy="828360"/>
            <a:chOff x="685800" y="3914640"/>
            <a:chExt cx="4157280" cy="828360"/>
          </a:xfrm>
        </p:grpSpPr>
        <p:sp>
          <p:nvSpPr>
            <p:cNvPr id="174" name="Óvalo"/>
            <p:cNvSpPr/>
            <p:nvPr/>
          </p:nvSpPr>
          <p:spPr>
            <a:xfrm>
              <a:off x="685800" y="3914640"/>
              <a:ext cx="4157280" cy="828360"/>
            </a:xfrm>
            <a:prstGeom prst="ellipse">
              <a:avLst/>
            </a:prstGeom>
            <a:solidFill>
              <a:srgbClr val="c9c9c9"/>
            </a:solidFill>
            <a:ln w="127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45720" rIns="45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Calibri"/>
              </a:endParaRPr>
            </a:p>
          </p:txBody>
        </p:sp>
        <p:sp>
          <p:nvSpPr>
            <p:cNvPr id="175" name="HEMOCONCENTRACIÓN"/>
            <p:cNvSpPr/>
            <p:nvPr/>
          </p:nvSpPr>
          <p:spPr>
            <a:xfrm>
              <a:off x="1346760" y="4146480"/>
              <a:ext cx="2835360" cy="36504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45720" rIns="457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3b3838"/>
                  </a:solidFill>
                  <a:latin typeface="Calibri"/>
                  <a:ea typeface="Calibri"/>
                </a:rPr>
                <a:t>HEMOCONCENTR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Elipse 6"/>
          <p:cNvGrpSpPr/>
          <p:nvPr/>
        </p:nvGrpSpPr>
        <p:grpSpPr>
          <a:xfrm>
            <a:off x="685800" y="5600520"/>
            <a:ext cx="4109760" cy="728280"/>
            <a:chOff x="685800" y="5600520"/>
            <a:chExt cx="4109760" cy="728280"/>
          </a:xfrm>
        </p:grpSpPr>
        <p:sp>
          <p:nvSpPr>
            <p:cNvPr id="177" name="Óvalo"/>
            <p:cNvSpPr/>
            <p:nvPr/>
          </p:nvSpPr>
          <p:spPr>
            <a:xfrm>
              <a:off x="685800" y="5600520"/>
              <a:ext cx="4109760" cy="728280"/>
            </a:xfrm>
            <a:prstGeom prst="ellipse">
              <a:avLst/>
            </a:prstGeom>
            <a:solidFill>
              <a:srgbClr val="b4c7e7"/>
            </a:solidFill>
            <a:ln w="127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45720" rIns="45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Calibri"/>
              </a:endParaRPr>
            </a:p>
          </p:txBody>
        </p:sp>
        <p:sp>
          <p:nvSpPr>
            <p:cNvPr id="178" name="HIPOTENSIÓN"/>
            <p:cNvSpPr/>
            <p:nvPr/>
          </p:nvSpPr>
          <p:spPr>
            <a:xfrm>
              <a:off x="1339920" y="5782320"/>
              <a:ext cx="2801880" cy="36504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45720" rIns="457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3b3838"/>
                  </a:solidFill>
                  <a:latin typeface="Calibri"/>
                  <a:ea typeface="Calibri"/>
                </a:rPr>
                <a:t>HIPOTENS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Elipse 7"/>
          <p:cNvGrpSpPr/>
          <p:nvPr/>
        </p:nvGrpSpPr>
        <p:grpSpPr>
          <a:xfrm>
            <a:off x="1886040" y="1921680"/>
            <a:ext cx="1709280" cy="4814640"/>
            <a:chOff x="1886040" y="1921680"/>
            <a:chExt cx="1709280" cy="4814640"/>
          </a:xfrm>
        </p:grpSpPr>
        <p:sp>
          <p:nvSpPr>
            <p:cNvPr id="180" name="Óvalo"/>
            <p:cNvSpPr/>
            <p:nvPr/>
          </p:nvSpPr>
          <p:spPr>
            <a:xfrm>
              <a:off x="1886040" y="1921680"/>
              <a:ext cx="1709280" cy="4814640"/>
            </a:xfrm>
            <a:prstGeom prst="ellipse">
              <a:avLst/>
            </a:prstGeom>
            <a:solidFill>
              <a:srgbClr val="ff0000"/>
            </a:solidFill>
            <a:ln w="127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45720" rIns="45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Calibri"/>
              </a:endParaRPr>
            </a:p>
          </p:txBody>
        </p:sp>
        <p:sp>
          <p:nvSpPr>
            <p:cNvPr id="181" name="SHOCK…"/>
            <p:cNvSpPr/>
            <p:nvPr/>
          </p:nvSpPr>
          <p:spPr>
            <a:xfrm>
              <a:off x="2188440" y="3871800"/>
              <a:ext cx="1104480" cy="91368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45720" rIns="457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3b3838"/>
                  </a:solidFill>
                  <a:latin typeface="Calibri"/>
                  <a:ea typeface="Calibri"/>
                </a:rPr>
                <a:t>SHO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3b3838"/>
                  </a:solidFill>
                  <a:latin typeface="Calibri"/>
                  <a:ea typeface="Calibri"/>
                </a:rPr>
                <a:t>DISTRIBU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3b3838"/>
                  </a:solidFill>
                  <a:latin typeface="Calibri"/>
                  <a:ea typeface="Calibri"/>
                </a:rPr>
                <a:t>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Elipse 9"/>
          <p:cNvGrpSpPr/>
          <p:nvPr/>
        </p:nvGrpSpPr>
        <p:grpSpPr>
          <a:xfrm>
            <a:off x="7153200" y="1964520"/>
            <a:ext cx="4200120" cy="1213920"/>
            <a:chOff x="7153200" y="1964520"/>
            <a:chExt cx="4200120" cy="1213920"/>
          </a:xfrm>
        </p:grpSpPr>
        <p:sp>
          <p:nvSpPr>
            <p:cNvPr id="183" name="Óvalo"/>
            <p:cNvSpPr/>
            <p:nvPr/>
          </p:nvSpPr>
          <p:spPr>
            <a:xfrm>
              <a:off x="7153200" y="1964520"/>
              <a:ext cx="4200120" cy="1213920"/>
            </a:xfrm>
            <a:prstGeom prst="ellipse">
              <a:avLst/>
            </a:prstGeom>
            <a:solidFill>
              <a:schemeClr val="accent4"/>
            </a:solidFill>
            <a:ln w="127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45720" rIns="45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Calibri"/>
              </a:endParaRPr>
            </a:p>
          </p:txBody>
        </p:sp>
        <p:sp>
          <p:nvSpPr>
            <p:cNvPr id="184" name="EDEMA GENALIZADO"/>
            <p:cNvSpPr/>
            <p:nvPr/>
          </p:nvSpPr>
          <p:spPr>
            <a:xfrm>
              <a:off x="7820640" y="2388960"/>
              <a:ext cx="2865600" cy="36504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45720" rIns="457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3b3838"/>
                  </a:solidFill>
                  <a:latin typeface="Calibri"/>
                  <a:ea typeface="Calibri"/>
                </a:rPr>
                <a:t>EDEMA GENALIZ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Elipse 12"/>
          <p:cNvGrpSpPr/>
          <p:nvPr/>
        </p:nvGrpSpPr>
        <p:grpSpPr>
          <a:xfrm>
            <a:off x="7153200" y="3818160"/>
            <a:ext cx="4200120" cy="1213920"/>
            <a:chOff x="7153200" y="3818160"/>
            <a:chExt cx="4200120" cy="1213920"/>
          </a:xfrm>
        </p:grpSpPr>
        <p:sp>
          <p:nvSpPr>
            <p:cNvPr id="186" name="Óvalo"/>
            <p:cNvSpPr/>
            <p:nvPr/>
          </p:nvSpPr>
          <p:spPr>
            <a:xfrm>
              <a:off x="7153200" y="3818160"/>
              <a:ext cx="4200120" cy="1213920"/>
            </a:xfrm>
            <a:prstGeom prst="ellipse">
              <a:avLst/>
            </a:prstGeom>
            <a:solidFill>
              <a:schemeClr val="accent4"/>
            </a:solidFill>
            <a:ln w="127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45720" rIns="45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Calibri"/>
              </a:endParaRPr>
            </a:p>
          </p:txBody>
        </p:sp>
        <p:sp>
          <p:nvSpPr>
            <p:cNvPr id="187" name="HIPOVOLEMIA"/>
            <p:cNvSpPr/>
            <p:nvPr/>
          </p:nvSpPr>
          <p:spPr>
            <a:xfrm>
              <a:off x="7820640" y="4242960"/>
              <a:ext cx="2865600" cy="36504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45720" rIns="457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3b3838"/>
                  </a:solidFill>
                  <a:latin typeface="Calibri"/>
                  <a:ea typeface="Calibri"/>
                </a:rPr>
                <a:t>HIPOVOLEM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Más 2"/>
          <p:cNvSpPr/>
          <p:nvPr/>
        </p:nvSpPr>
        <p:spPr>
          <a:xfrm>
            <a:off x="5564160" y="3953880"/>
            <a:ext cx="682200" cy="750240"/>
          </a:xfrm>
          <a:custGeom>
            <a:avLst/>
            <a:gdLst>
              <a:gd name="textAreaLeft" fmla="*/ 0 w 682200"/>
              <a:gd name="textAreaRight" fmla="*/ 682560 w 682200"/>
              <a:gd name="textAreaTop" fmla="*/ 0 h 750240"/>
              <a:gd name="textAreaBottom" fmla="*/ 750600 h 750240"/>
            </a:gdLst>
            <a:ahLst/>
            <a:rect l="textAreaLeft" t="textAreaTop" r="textAreaRight" b="textAreaBottom"/>
            <a:pathLst>
              <a:path w="21600" h="21600">
                <a:moveTo>
                  <a:pt x="0" y="7658"/>
                </a:moveTo>
                <a:lnTo>
                  <a:pt x="7344" y="7658"/>
                </a:lnTo>
                <a:lnTo>
                  <a:pt x="7344" y="0"/>
                </a:lnTo>
                <a:lnTo>
                  <a:pt x="14256" y="0"/>
                </a:lnTo>
                <a:lnTo>
                  <a:pt x="14256" y="7658"/>
                </a:lnTo>
                <a:lnTo>
                  <a:pt x="21600" y="7658"/>
                </a:lnTo>
                <a:lnTo>
                  <a:pt x="21600" y="13942"/>
                </a:lnTo>
                <a:lnTo>
                  <a:pt x="14256" y="13942"/>
                </a:lnTo>
                <a:lnTo>
                  <a:pt x="14256" y="21600"/>
                </a:lnTo>
                <a:lnTo>
                  <a:pt x="7344" y="21600"/>
                </a:lnTo>
                <a:lnTo>
                  <a:pt x="7344" y="13942"/>
                </a:lnTo>
                <a:lnTo>
                  <a:pt x="0" y="13942"/>
                </a:lnTo>
                <a:close/>
              </a:path>
            </a:pathLst>
          </a:custGeom>
          <a:solidFill>
            <a:schemeClr val="accent1"/>
          </a:solidFill>
          <a:ln w="12700">
            <a:solidFill>
              <a:srgbClr val="325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iterate type="el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Marcador de contenido 4"/>
          <p:cNvGrpSpPr/>
          <p:nvPr/>
        </p:nvGrpSpPr>
        <p:grpSpPr>
          <a:xfrm>
            <a:off x="0" y="-114480"/>
            <a:ext cx="12191760" cy="6972120"/>
            <a:chOff x="0" y="-114480"/>
            <a:chExt cx="12191760" cy="6972120"/>
          </a:xfrm>
        </p:grpSpPr>
        <p:sp>
          <p:nvSpPr>
            <p:cNvPr id="190" name="Rectángulo"/>
            <p:cNvSpPr/>
            <p:nvPr/>
          </p:nvSpPr>
          <p:spPr>
            <a:xfrm>
              <a:off x="0" y="-114480"/>
              <a:ext cx="12191760" cy="6972120"/>
            </a:xfrm>
            <a:prstGeom prst="rect">
              <a:avLst/>
            </a:prstGeom>
            <a:solidFill>
              <a:srgbClr val="7030a0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45720" rIns="45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Calibri"/>
              </a:endParaRPr>
            </a:p>
          </p:txBody>
        </p:sp>
        <p:pic>
          <p:nvPicPr>
            <p:cNvPr id="191" name="image8.jpeg" descr="image8.jpeg"/>
            <p:cNvPicPr/>
            <p:nvPr/>
          </p:nvPicPr>
          <p:blipFill>
            <a:blip r:embed="rId1"/>
            <a:stretch/>
          </p:blipFill>
          <p:spPr>
            <a:xfrm>
              <a:off x="0" y="-114480"/>
              <a:ext cx="12191760" cy="6972120"/>
            </a:xfrm>
            <a:prstGeom prst="rect">
              <a:avLst/>
            </a:prstGeom>
            <a:ln w="9525">
              <a:solidFill>
                <a:srgbClr val="4472c4"/>
              </a:solidFill>
              <a:round/>
            </a:ln>
          </p:spPr>
        </p:pic>
      </p:grpSp>
      <p:sp>
        <p:nvSpPr>
          <p:cNvPr id="192" name="CuadroTexto 7"/>
          <p:cNvSpPr/>
          <p:nvPr/>
        </p:nvSpPr>
        <p:spPr>
          <a:xfrm>
            <a:off x="1659600" y="2402280"/>
            <a:ext cx="8872200" cy="1918080"/>
          </a:xfrm>
          <a:prstGeom prst="rect">
            <a:avLst/>
          </a:prstGeom>
          <a:solidFill>
            <a:schemeClr val="accent6">
              <a:alpha val="50000"/>
            </a:schemeClr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SÍNDROME EXTRAVASACIÓN CAPILAR SISTÉMICA IDIOPÁTICA 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SÍNDROME DE CLARK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12600">
            <a:noFill/>
          </a:ln>
        </p:spPr>
        <p:txBody>
          <a:bodyPr lIns="45720" rIns="45720" tIns="45000" bIns="450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Calibri Light"/>
              </a:rPr>
              <a:t>DISCUS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469880"/>
            <a:ext cx="10515240" cy="4350960"/>
          </a:xfrm>
          <a:prstGeom prst="rect">
            <a:avLst/>
          </a:prstGeom>
          <a:noFill/>
          <a:ln w="12600">
            <a:noFill/>
          </a:ln>
        </p:spPr>
        <p:txBody>
          <a:bodyPr lIns="45720" rIns="45720" tIns="45000" bIns="45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escrito 1960 por B. Clarkso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tiologí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: desconocid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(defectos genéticos en endotelio ??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infección previa (ITU, gripe, SARS COV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pidemiologí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260 casos descritos a nivel mundial (EureClark registry). Mediana edad, no predilección géner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ausas de fuga capilar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CuadroTexto 3"/>
          <p:cNvSpPr/>
          <p:nvPr/>
        </p:nvSpPr>
        <p:spPr>
          <a:xfrm>
            <a:off x="1631520" y="4333320"/>
            <a:ext cx="9676080" cy="3639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 Aumento presión hidrostática capila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⩬ ICC, IR u obstrucción venosa hepática, T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CuadroTexto 4"/>
          <p:cNvSpPr/>
          <p:nvPr/>
        </p:nvSpPr>
        <p:spPr>
          <a:xfrm>
            <a:off x="1631520" y="4820040"/>
            <a:ext cx="9195120" cy="6382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2 Disminución de la presión oncótica capila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⩬ sd nefrótico, enteropatía pierde proteínas , disminución síntesis de albúm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CuadroTexto 5"/>
          <p:cNvSpPr/>
          <p:nvPr/>
        </p:nvSpPr>
        <p:spPr>
          <a:xfrm>
            <a:off x="1631520" y="5498280"/>
            <a:ext cx="9214200" cy="6382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3 Aumento de la permeabilidad vascul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 ⩬ sepsis, SRIS, pancreatitis aguda, anafilaxia, mordedura de serpiente, vacunación SARS CO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CuadroTexto 7"/>
          <p:cNvSpPr/>
          <p:nvPr/>
        </p:nvSpPr>
        <p:spPr>
          <a:xfrm>
            <a:off x="7617960" y="6222600"/>
            <a:ext cx="4527720" cy="5918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*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Am j med. 1960 aug;29:193-216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Cyclical edema and shock due to increased capillary permeabil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B. Clarkson, D Thompson, M Horwith, E H Lucke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12600">
            <a:noFill/>
          </a:ln>
        </p:spPr>
        <p:txBody>
          <a:bodyPr lIns="45720" rIns="45720" tIns="45000" bIns="450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Calibri Light"/>
              </a:rPr>
              <a:t>DISCUS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12600">
            <a:noFill/>
          </a:ln>
        </p:spPr>
        <p:txBody>
          <a:bodyPr lIns="45720" rIns="45720" tIns="45000" bIns="45000" anchor="t">
            <a:noAutofit/>
          </a:bodyPr>
          <a:p>
            <a:pPr marL="221760" indent="-221760">
              <a:lnSpc>
                <a:spcPct val="81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720" spc="-1" strike="noStrike">
                <a:solidFill>
                  <a:srgbClr val="000000"/>
                </a:solidFill>
                <a:latin typeface="Calibri"/>
                <a:ea typeface="Calibri"/>
              </a:rPr>
              <a:t>HIPÓTESIS </a:t>
            </a:r>
            <a:endParaRPr b="0" lang="en-US" sz="2720" spc="-1" strike="noStrike">
              <a:solidFill>
                <a:srgbClr val="000000"/>
              </a:solidFill>
              <a:latin typeface="Calibri"/>
            </a:endParaRPr>
          </a:p>
          <a:p>
            <a:pPr lvl="1" marL="665280" indent="-221760">
              <a:lnSpc>
                <a:spcPct val="81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330" spc="-1" strike="noStrike">
                <a:solidFill>
                  <a:srgbClr val="000000"/>
                </a:solidFill>
                <a:latin typeface="Calibri"/>
                <a:ea typeface="Calibri"/>
              </a:rPr>
              <a:t>Proteínas monoclonales:    </a:t>
            </a:r>
            <a:r>
              <a:rPr b="0" lang="en-US" sz="2330" spc="-1" strike="noStrike">
                <a:solidFill>
                  <a:srgbClr val="000000"/>
                </a:solidFill>
                <a:latin typeface="Calibri"/>
                <a:ea typeface="Calibri"/>
              </a:rPr>
              <a:t>paraproteinas en fase aguda (IgG1) </a:t>
            </a:r>
            <a:endParaRPr b="0" lang="en-US" sz="23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330" spc="-1" strike="noStrike">
              <a:solidFill>
                <a:srgbClr val="000000"/>
              </a:solidFill>
              <a:latin typeface="Calibri"/>
            </a:endParaRPr>
          </a:p>
          <a:p>
            <a:pPr lvl="1" marL="665280" indent="-221760">
              <a:lnSpc>
                <a:spcPct val="81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330" spc="-1" strike="noStrike">
                <a:solidFill>
                  <a:srgbClr val="000000"/>
                </a:solidFill>
                <a:latin typeface="Calibri"/>
                <a:ea typeface="Calibri"/>
              </a:rPr>
              <a:t>Anormalidades en VEGF y angiopoyetina 2: </a:t>
            </a:r>
            <a:r>
              <a:rPr b="0" lang="en-US" sz="2330" spc="-1" strike="noStrike">
                <a:solidFill>
                  <a:srgbClr val="000000"/>
                </a:solidFill>
                <a:latin typeface="Calibri"/>
                <a:ea typeface="Calibri"/>
              </a:rPr>
              <a:t>alteran las uniones de las células endoteliales y provocan la retracción celular en ausencia de apoptosis.</a:t>
            </a:r>
            <a:endParaRPr b="0" lang="en-US" sz="23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1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330" spc="-1" strike="noStrike">
              <a:solidFill>
                <a:srgbClr val="000000"/>
              </a:solidFill>
              <a:latin typeface="Calibri"/>
            </a:endParaRPr>
          </a:p>
          <a:p>
            <a:pPr lvl="1" marL="665280" indent="-221760">
              <a:lnSpc>
                <a:spcPct val="81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2330" spc="-1" strike="noStrike">
                <a:solidFill>
                  <a:srgbClr val="000000"/>
                </a:solidFill>
                <a:latin typeface="Calibri"/>
                <a:ea typeface="Calibri"/>
              </a:rPr>
              <a:t>Apoptosis de células endoteliales: </a:t>
            </a:r>
            <a:r>
              <a:rPr b="0" lang="en-US" sz="2330" spc="-1" strike="noStrike">
                <a:solidFill>
                  <a:srgbClr val="000000"/>
                </a:solidFill>
                <a:latin typeface="Calibri"/>
                <a:ea typeface="Calibri"/>
              </a:rPr>
              <a:t>evidencia en las biopsias musculares y en suero de los pacientes durante los cuadros agudos.</a:t>
            </a:r>
            <a:endParaRPr b="0" lang="en-US" sz="23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30" spc="-1" strike="noStrike">
              <a:solidFill>
                <a:srgbClr val="000000"/>
              </a:solidFill>
              <a:latin typeface="Calibri"/>
            </a:endParaRPr>
          </a:p>
          <a:p>
            <a:pPr lvl="1" marL="665280" indent="-221760">
              <a:lnSpc>
                <a:spcPct val="81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2330" spc="-1" strike="noStrike">
                <a:solidFill>
                  <a:srgbClr val="000000"/>
                </a:solidFill>
                <a:latin typeface="Calibri"/>
                <a:ea typeface="Calibri"/>
              </a:rPr>
              <a:t>Participación IL2: </a:t>
            </a:r>
            <a:r>
              <a:rPr b="0" lang="en-US" sz="2330" spc="-1" strike="noStrike">
                <a:solidFill>
                  <a:srgbClr val="000000"/>
                </a:solidFill>
                <a:latin typeface="Calibri"/>
                <a:ea typeface="Calibri"/>
              </a:rPr>
              <a:t>aumento de la expresión en células mononucleares </a:t>
            </a:r>
            <a:endParaRPr b="0" lang="en-US" sz="23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1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330" spc="-1" strike="noStrike">
              <a:solidFill>
                <a:srgbClr val="000000"/>
              </a:solidFill>
              <a:latin typeface="Calibri"/>
            </a:endParaRPr>
          </a:p>
          <a:p>
            <a:pPr lvl="1" marL="665280" indent="-221760">
              <a:lnSpc>
                <a:spcPct val="81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2330" spc="-1" strike="noStrike">
                <a:solidFill>
                  <a:srgbClr val="000000"/>
                </a:solidFill>
                <a:latin typeface="Calibri"/>
                <a:ea typeface="Calibri"/>
              </a:rPr>
              <a:t>Mediadores inflamatorios: </a:t>
            </a:r>
            <a:r>
              <a:rPr b="0" lang="en-US" sz="2330" spc="-1" strike="noStrike">
                <a:solidFill>
                  <a:srgbClr val="000000"/>
                </a:solidFill>
                <a:latin typeface="Calibri"/>
                <a:ea typeface="Calibri"/>
              </a:rPr>
              <a:t>leucotrienos, TNF-alfa </a:t>
            </a:r>
            <a:endParaRPr b="0" lang="en-US" sz="23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Conector recto de flecha 4"/>
          <p:cNvSpPr/>
          <p:nvPr/>
        </p:nvSpPr>
        <p:spPr>
          <a:xfrm flipV="1">
            <a:off x="4871880" y="2371680"/>
            <a:ext cx="0" cy="271440"/>
          </a:xfrm>
          <a:prstGeom prst="line">
            <a:avLst/>
          </a:prstGeom>
          <a:ln w="6350">
            <a:solidFill>
              <a:srgbClr val="4472c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12600">
            <a:noFill/>
          </a:ln>
        </p:spPr>
        <p:txBody>
          <a:bodyPr lIns="45720" rIns="45720" tIns="45000" bIns="450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Calibri Light"/>
              </a:rPr>
              <a:t>DISCUSIÓ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Calibri Light"/>
              </a:rPr>
              <a:t>CLÍN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CuadroTexto 5"/>
          <p:cNvSpPr/>
          <p:nvPr/>
        </p:nvSpPr>
        <p:spPr>
          <a:xfrm>
            <a:off x="1579320" y="2028960"/>
            <a:ext cx="1814040" cy="2832840"/>
          </a:xfrm>
          <a:prstGeom prst="rect">
            <a:avLst/>
          </a:prstGeom>
          <a:solidFill>
            <a:schemeClr val="accent2"/>
          </a:solidFill>
          <a:ln w="1905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PRÓDRO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Oligu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Fati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Ed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Sínco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Dolor abdo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Náus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Mialg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Polidip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umento pe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CuadroTexto 6"/>
          <p:cNvSpPr/>
          <p:nvPr/>
        </p:nvSpPr>
        <p:spPr>
          <a:xfrm>
            <a:off x="171360" y="2871720"/>
            <a:ext cx="1071360" cy="1549800"/>
          </a:xfrm>
          <a:prstGeom prst="rect">
            <a:avLst/>
          </a:prstGeom>
          <a:solidFill>
            <a:srgbClr val="ffffff"/>
          </a:solidFill>
          <a:ln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V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GRI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COVID 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VACUNA SAR- COV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CuadroTexto 7"/>
          <p:cNvSpPr/>
          <p:nvPr/>
        </p:nvSpPr>
        <p:spPr>
          <a:xfrm>
            <a:off x="4672080" y="2028960"/>
            <a:ext cx="2847600" cy="3930120"/>
          </a:xfrm>
          <a:prstGeom prst="rect">
            <a:avLst/>
          </a:prstGeom>
          <a:gradFill rotWithShape="0">
            <a:gsLst>
              <a:gs pos="0">
                <a:srgbClr val="80b860"/>
              </a:gs>
              <a:gs pos="100000">
                <a:srgbClr val="6fb242"/>
              </a:gs>
            </a:gsLst>
            <a:lin ang="5400000"/>
          </a:gradFill>
          <a:ln w="635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EXTRAVASIÓN LIQU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Hipotensión: TAS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〈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90mmHg o TAM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〈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65 mmHg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shock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I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Hemoconcentración (dd): Hto M 60,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Hipoalbuminemia: 1,7 +/- 0,7g/d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Edemas, ascitis, derrame pleural, pericárdico, cerebral, encefalopat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Flecha derecha 8"/>
          <p:cNvGrpSpPr/>
          <p:nvPr/>
        </p:nvGrpSpPr>
        <p:grpSpPr>
          <a:xfrm>
            <a:off x="3466800" y="3217680"/>
            <a:ext cx="1131840" cy="484200"/>
            <a:chOff x="3466800" y="3217680"/>
            <a:chExt cx="1131840" cy="484200"/>
          </a:xfrm>
        </p:grpSpPr>
        <p:sp>
          <p:nvSpPr>
            <p:cNvPr id="207" name="Flecha"/>
            <p:cNvSpPr/>
            <p:nvPr/>
          </p:nvSpPr>
          <p:spPr>
            <a:xfrm>
              <a:off x="3466800" y="3217680"/>
              <a:ext cx="113184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chemeClr val="accent3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45720" rIns="45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Calibri"/>
              </a:endParaRPr>
            </a:p>
          </p:txBody>
        </p:sp>
        <p:sp>
          <p:nvSpPr>
            <p:cNvPr id="208" name="1-4 días"/>
            <p:cNvSpPr/>
            <p:nvPr/>
          </p:nvSpPr>
          <p:spPr>
            <a:xfrm>
              <a:off x="3512520" y="3277080"/>
              <a:ext cx="919080" cy="36504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45720" rIns="457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3b3838"/>
                  </a:solidFill>
                  <a:latin typeface="Calibri"/>
                  <a:ea typeface="Calibri"/>
                </a:rPr>
                <a:t>1-4 dí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CuadroTexto 9"/>
          <p:cNvSpPr/>
          <p:nvPr/>
        </p:nvSpPr>
        <p:spPr>
          <a:xfrm>
            <a:off x="9001080" y="2028960"/>
            <a:ext cx="2828520" cy="2009880"/>
          </a:xfrm>
          <a:prstGeom prst="rect">
            <a:avLst/>
          </a:prstGeom>
          <a:solidFill>
            <a:schemeClr val="accent5"/>
          </a:solidFill>
          <a:ln w="127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RECUPE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RECLUT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Disminución requerimiento líquidos iv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Riesgo sobre carga volumen y EA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Flecha derecha 10"/>
          <p:cNvGrpSpPr/>
          <p:nvPr/>
        </p:nvGrpSpPr>
        <p:grpSpPr>
          <a:xfrm>
            <a:off x="7694640" y="3171960"/>
            <a:ext cx="1131840" cy="484200"/>
            <a:chOff x="7694640" y="3171960"/>
            <a:chExt cx="1131840" cy="484200"/>
          </a:xfrm>
        </p:grpSpPr>
        <p:sp>
          <p:nvSpPr>
            <p:cNvPr id="211" name="Flecha"/>
            <p:cNvSpPr/>
            <p:nvPr/>
          </p:nvSpPr>
          <p:spPr>
            <a:xfrm>
              <a:off x="7694640" y="3171960"/>
              <a:ext cx="113184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chemeClr val="accent3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45720" rIns="45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Calibri"/>
              </a:endParaRPr>
            </a:p>
          </p:txBody>
        </p:sp>
        <p:sp>
          <p:nvSpPr>
            <p:cNvPr id="212" name="3,8 días"/>
            <p:cNvSpPr/>
            <p:nvPr/>
          </p:nvSpPr>
          <p:spPr>
            <a:xfrm>
              <a:off x="7740360" y="3231720"/>
              <a:ext cx="919080" cy="36504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45720" rIns="457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3b3838"/>
                  </a:solidFill>
                  <a:latin typeface="Calibri"/>
                  <a:ea typeface="Calibri"/>
                </a:rPr>
                <a:t>3,8 dí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CuadroTexto 11"/>
          <p:cNvSpPr/>
          <p:nvPr/>
        </p:nvSpPr>
        <p:spPr>
          <a:xfrm>
            <a:off x="8618400" y="5000760"/>
            <a:ext cx="3265920" cy="9126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FORMAS CRÓNICA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Edemas subagu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ammapatia monocl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CuadroTexto 12"/>
          <p:cNvSpPr/>
          <p:nvPr/>
        </p:nvSpPr>
        <p:spPr>
          <a:xfrm>
            <a:off x="8618400" y="6276240"/>
            <a:ext cx="3380040" cy="2419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* Kappor P, Greipp Pt, Shaefer EW e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iterate type="el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iterate type="el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1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iterate type="el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5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iterate type="el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8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iterate type="el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2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el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6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el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12600">
            <a:noFill/>
          </a:ln>
        </p:spPr>
        <p:txBody>
          <a:bodyPr lIns="45720" rIns="45720" tIns="45000" bIns="450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Calibri Light"/>
              </a:rPr>
              <a:t>DISCUS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774680"/>
          </a:xfrm>
          <a:prstGeom prst="rect">
            <a:avLst/>
          </a:prstGeom>
          <a:noFill/>
          <a:ln w="12600">
            <a:noFill/>
          </a:ln>
        </p:spPr>
        <p:txBody>
          <a:bodyPr lIns="45720" rIns="45720" tIns="45000" bIns="45000" anchor="t">
            <a:noAutofit/>
          </a:bodyPr>
          <a:p>
            <a:pPr marL="223920" indent="-223920">
              <a:lnSpc>
                <a:spcPct val="72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450" spc="-1" strike="noStrike">
                <a:solidFill>
                  <a:srgbClr val="000000"/>
                </a:solidFill>
                <a:latin typeface="Calibri"/>
                <a:ea typeface="Calibri"/>
              </a:rPr>
              <a:t>CLÍNICA-GRAVEDAD </a:t>
            </a:r>
            <a:endParaRPr b="0" lang="en-US" sz="24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2000"/>
              </a:lnSpc>
              <a:spcBef>
                <a:spcPts val="901"/>
              </a:spcBef>
              <a:buNone/>
            </a:pPr>
            <a:endParaRPr b="0" lang="en-US" sz="24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2000"/>
              </a:lnSpc>
              <a:spcBef>
                <a:spcPts val="901"/>
              </a:spcBef>
              <a:buNone/>
            </a:pPr>
            <a:endParaRPr b="0" lang="en-US" sz="24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2000"/>
              </a:lnSpc>
              <a:spcBef>
                <a:spcPts val="901"/>
              </a:spcBef>
              <a:buNone/>
            </a:pPr>
            <a:endParaRPr b="0" lang="en-US" sz="24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2000"/>
              </a:lnSpc>
              <a:spcBef>
                <a:spcPts val="901"/>
              </a:spcBef>
              <a:buNone/>
            </a:pPr>
            <a:endParaRPr b="0" lang="en-US" sz="24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2000"/>
              </a:lnSpc>
              <a:spcBef>
                <a:spcPts val="901"/>
              </a:spcBef>
              <a:buNone/>
            </a:pPr>
            <a:endParaRPr b="0" lang="en-US" sz="24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2000"/>
              </a:lnSpc>
              <a:spcBef>
                <a:spcPts val="901"/>
              </a:spcBef>
              <a:buNone/>
            </a:pPr>
            <a:endParaRPr b="0" lang="en-US" sz="24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2000"/>
              </a:lnSpc>
              <a:spcBef>
                <a:spcPts val="901"/>
              </a:spcBef>
              <a:buNone/>
            </a:pPr>
            <a:endParaRPr b="0" lang="en-US" sz="245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2000"/>
              </a:lnSpc>
              <a:spcBef>
                <a:spcPts val="901"/>
              </a:spcBef>
              <a:buNone/>
              <a:tabLst>
                <a:tab algn="l" pos="0"/>
              </a:tabLst>
            </a:pPr>
            <a:endParaRPr b="0" lang="en-US" sz="245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2000"/>
              </a:lnSpc>
              <a:spcBef>
                <a:spcPts val="901"/>
              </a:spcBef>
              <a:buNone/>
              <a:tabLst>
                <a:tab algn="l" pos="0"/>
              </a:tabLst>
            </a:pPr>
            <a:endParaRPr b="0" lang="en-US" sz="137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2000"/>
              </a:lnSpc>
              <a:spcBef>
                <a:spcPts val="901"/>
              </a:spcBef>
              <a:buNone/>
              <a:tabLst>
                <a:tab algn="l" pos="0"/>
              </a:tabLst>
            </a:pPr>
            <a:endParaRPr b="0" lang="en-US" sz="137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2000"/>
              </a:lnSpc>
              <a:spcBef>
                <a:spcPts val="901"/>
              </a:spcBef>
              <a:buNone/>
              <a:tabLst>
                <a:tab algn="l" pos="0"/>
              </a:tabLst>
            </a:pPr>
            <a:endParaRPr b="0" lang="en-US" sz="137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2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0" lang="en-US" sz="1180" spc="-1" strike="noStrike">
                <a:solidFill>
                  <a:srgbClr val="000000"/>
                </a:solidFill>
                <a:latin typeface="Calibri"/>
                <a:ea typeface="Calibri"/>
              </a:rPr>
              <a:t>De Druey y Greipp</a:t>
            </a:r>
            <a:endParaRPr b="0" lang="en-US" sz="118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Imagen 4" descr="Imagen 4"/>
          <p:cNvPicPr/>
          <p:nvPr/>
        </p:nvPicPr>
        <p:blipFill>
          <a:blip r:embed="rId1"/>
          <a:stretch/>
        </p:blipFill>
        <p:spPr>
          <a:xfrm>
            <a:off x="1149480" y="2367000"/>
            <a:ext cx="9892800" cy="3809520"/>
          </a:xfrm>
          <a:prstGeom prst="rect">
            <a:avLst/>
          </a:prstGeom>
          <a:ln w="0">
            <a:solidFill>
              <a:srgbClr val="000000"/>
            </a:solidFill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12600">
            <a:noFill/>
          </a:ln>
        </p:spPr>
        <p:txBody>
          <a:bodyPr lIns="45720" rIns="45720" tIns="45000" bIns="450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Calibri Light"/>
              </a:rPr>
              <a:t>PRESENTACIÓN DEL CA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12600">
            <a:noFill/>
          </a:ln>
        </p:spPr>
        <p:txBody>
          <a:bodyPr lIns="45720" rIns="45720" tIns="45000" bIns="45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ujer 56 años, sin alergias medicamentosas ni hábitos tóxicos, en estudio por episodio de shock indiferenciado tres meses antes y gammapatia monoclonal IgG lambda de significado inciert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onsulta en urgencias por astenia, dolor lumbar, nauseas y vómitos de 24 horas de duración. No fieb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F: Peso 70 kg.  REG. TA 80/40, Mala perfusión periférica con retraso del relleno ungueal, cianosis y piel fría. No sudoración. Temblor generalizado en reposo. Eupneica, tolera decúbito. No IVY. No petequias. Edemas generalizado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12600">
            <a:noFill/>
          </a:ln>
        </p:spPr>
        <p:txBody>
          <a:bodyPr lIns="45720" rIns="45720" tIns="45000" bIns="450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Calibri Light"/>
              </a:rPr>
              <a:t>DISCUS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Imagen 3" descr="Imagen 3"/>
          <p:cNvPicPr/>
          <p:nvPr/>
        </p:nvPicPr>
        <p:blipFill>
          <a:blip r:embed="rId1"/>
          <a:stretch/>
        </p:blipFill>
        <p:spPr>
          <a:xfrm>
            <a:off x="603360" y="1568520"/>
            <a:ext cx="6510600" cy="4519080"/>
          </a:xfrm>
          <a:prstGeom prst="rect">
            <a:avLst/>
          </a:prstGeom>
          <a:ln w="12700">
            <a:noFill/>
          </a:ln>
        </p:spPr>
      </p:pic>
      <p:sp>
        <p:nvSpPr>
          <p:cNvPr id="220" name="CuadroTexto 4"/>
          <p:cNvSpPr/>
          <p:nvPr/>
        </p:nvSpPr>
        <p:spPr>
          <a:xfrm>
            <a:off x="7386480" y="2616840"/>
            <a:ext cx="4485960" cy="2833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Mayo 1992- Febrero 2016 (EureCla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59 episodios en 37 pac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34 p (91,9%) Gammapatia monoclonal IGG; 20 p (58,8%) Cadena ligeras Kap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Hb M 20,2 g/dL / Prot 50 g/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d compartimental: 12 p  (20,3%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Mortalidad: 11 p (18,6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12600">
            <a:noFill/>
          </a:ln>
        </p:spPr>
        <p:txBody>
          <a:bodyPr lIns="45720" rIns="45720" tIns="45000" bIns="450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Calibri Light"/>
              </a:rPr>
              <a:t>DISCUS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Imagen 3" descr="Imagen 3"/>
          <p:cNvPicPr/>
          <p:nvPr/>
        </p:nvPicPr>
        <p:blipFill>
          <a:blip r:embed="rId1"/>
          <a:stretch/>
        </p:blipFill>
        <p:spPr>
          <a:xfrm>
            <a:off x="0" y="1946160"/>
            <a:ext cx="9537480" cy="2222280"/>
          </a:xfrm>
          <a:prstGeom prst="rect">
            <a:avLst/>
          </a:prstGeom>
          <a:ln w="12700">
            <a:noFill/>
          </a:ln>
        </p:spPr>
      </p:pic>
      <p:sp>
        <p:nvSpPr>
          <p:cNvPr id="223" name="CuadroTexto 4"/>
          <p:cNvSpPr/>
          <p:nvPr/>
        </p:nvSpPr>
        <p:spPr>
          <a:xfrm>
            <a:off x="1671480" y="4184640"/>
            <a:ext cx="8457840" cy="2284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Enero 1997-Julio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28 paci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Edad M 49,1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Episodios anuales M: 1,23/pa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ammpatía monoclonal IgG:  39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Mortalidad:  29 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ratamiento preventivo: Inmunoglobulinas Iv: 18 p, terbutalina: 9 p, aminofilina: 10 p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upervivencia 85 % a los 5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12600">
            <a:noFill/>
          </a:ln>
        </p:spPr>
        <p:txBody>
          <a:bodyPr lIns="45720" rIns="45720" tIns="45000" bIns="450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Calibri Light"/>
              </a:rPr>
              <a:t>DISCUS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12600">
            <a:noFill/>
          </a:ln>
        </p:spPr>
        <p:txBody>
          <a:bodyPr lIns="45720" rIns="45720" tIns="45000" bIns="45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RATAMIENTO EMERGENTE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⩬ Shock sépt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stabilización vía respirato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stado de volu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valuar/restaurar perfusión: ionotrópicos, trasfusión, vasopres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Líquidos iv: estrategia conservadora (&gt; 10,7l iv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al pronóstico). Cristaloid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olo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C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Fármacos: IG iv, terbutalina, aminofilina, teofilina, infliximab??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12600">
            <a:noFill/>
          </a:ln>
        </p:spPr>
        <p:txBody>
          <a:bodyPr lIns="45720" rIns="45720" tIns="45000" bIns="450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Calibri Light"/>
              </a:rPr>
              <a:t>DISCUS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12600">
            <a:noFill/>
          </a:ln>
        </p:spPr>
        <p:txBody>
          <a:bodyPr lIns="45720" rIns="45720" tIns="45000" bIns="45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RATAMIENTO PREVENTIVO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1ª línea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&gt; Inmunoglobulinas iv 2gr/kg m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Imagen 3" descr="Imagen 3"/>
          <p:cNvPicPr/>
          <p:nvPr/>
        </p:nvPicPr>
        <p:blipFill>
          <a:blip r:embed="rId1"/>
          <a:stretch/>
        </p:blipFill>
        <p:spPr>
          <a:xfrm>
            <a:off x="480960" y="2941200"/>
            <a:ext cx="5366880" cy="2374920"/>
          </a:xfrm>
          <a:prstGeom prst="rect">
            <a:avLst/>
          </a:prstGeom>
          <a:ln w="12700">
            <a:noFill/>
          </a:ln>
        </p:spPr>
      </p:pic>
      <p:sp>
        <p:nvSpPr>
          <p:cNvPr id="229" name="CuadroTexto 4"/>
          <p:cNvSpPr/>
          <p:nvPr/>
        </p:nvSpPr>
        <p:spPr>
          <a:xfrm>
            <a:off x="526680" y="5222160"/>
            <a:ext cx="2484720" cy="9126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28 pacientes, 55 me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5 NO Ig Iv: 5 muer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23 SI Ig iv: 3 muer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Imagen 5" descr="Imagen 5"/>
          <p:cNvPicPr/>
          <p:nvPr/>
        </p:nvPicPr>
        <p:blipFill>
          <a:blip r:embed="rId2"/>
          <a:stretch/>
        </p:blipFill>
        <p:spPr>
          <a:xfrm>
            <a:off x="5986800" y="2941200"/>
            <a:ext cx="5366880" cy="2061000"/>
          </a:xfrm>
          <a:prstGeom prst="rect">
            <a:avLst/>
          </a:prstGeom>
          <a:ln w="12700">
            <a:noFill/>
          </a:ln>
        </p:spPr>
      </p:pic>
      <p:sp>
        <p:nvSpPr>
          <p:cNvPr id="231" name="CuadroTexto 6"/>
          <p:cNvSpPr/>
          <p:nvPr/>
        </p:nvSpPr>
        <p:spPr>
          <a:xfrm>
            <a:off x="6141600" y="5222160"/>
            <a:ext cx="4613400" cy="11869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69 pacientes 5-10 añ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48 SI Ig iv: 97 % superviv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37 pacientes NO Ig iv: 77 % superviv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Ig iv: reduce recurrencia y grave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12600">
            <a:noFill/>
          </a:ln>
        </p:spPr>
        <p:txBody>
          <a:bodyPr lIns="45720" rIns="45720" tIns="45000" bIns="450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Calibri Light"/>
              </a:rPr>
              <a:t>DISCUS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12600">
            <a:noFill/>
          </a:ln>
        </p:spPr>
        <p:txBody>
          <a:bodyPr lIns="45720" rIns="45720" tIns="45000" bIns="45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RATAMIENTO PREVENTIVO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2º líne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erbutalina (5 mg/6 hrs)  + teofilina (10-20mcg/m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Flecha abajo 3"/>
          <p:cNvSpPr/>
          <p:nvPr/>
        </p:nvSpPr>
        <p:spPr>
          <a:xfrm>
            <a:off x="4046760" y="3429000"/>
            <a:ext cx="484200" cy="285480"/>
          </a:xfrm>
          <a:custGeom>
            <a:avLst/>
            <a:gdLst>
              <a:gd name="textAreaLeft" fmla="*/ 0 w 484200"/>
              <a:gd name="textAreaRight" fmla="*/ 484560 w 48420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400" y="10800"/>
                </a:lnTo>
                <a:lnTo>
                  <a:pt x="5400" y="0"/>
                </a:lnTo>
                <a:lnTo>
                  <a:pt x="16200" y="0"/>
                </a:lnTo>
                <a:lnTo>
                  <a:pt x="16200" y="10800"/>
                </a:lnTo>
                <a:lnTo>
                  <a:pt x="21600" y="10800"/>
                </a:lnTo>
                <a:lnTo>
                  <a:pt x="10800" y="21600"/>
                </a:lnTo>
                <a:close/>
              </a:path>
            </a:pathLst>
          </a:custGeom>
          <a:solidFill>
            <a:schemeClr val="accent1"/>
          </a:solidFill>
          <a:ln w="12700">
            <a:solidFill>
              <a:srgbClr val="325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Calibri"/>
            </a:endParaRPr>
          </a:p>
        </p:txBody>
      </p:sp>
      <p:sp>
        <p:nvSpPr>
          <p:cNvPr id="235" name="Flecha abajo 4"/>
          <p:cNvSpPr/>
          <p:nvPr/>
        </p:nvSpPr>
        <p:spPr>
          <a:xfrm>
            <a:off x="8224920" y="3429000"/>
            <a:ext cx="484200" cy="285480"/>
          </a:xfrm>
          <a:custGeom>
            <a:avLst/>
            <a:gdLst>
              <a:gd name="textAreaLeft" fmla="*/ 0 w 484200"/>
              <a:gd name="textAreaRight" fmla="*/ 484560 w 48420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400" y="10800"/>
                </a:lnTo>
                <a:lnTo>
                  <a:pt x="5400" y="0"/>
                </a:lnTo>
                <a:lnTo>
                  <a:pt x="16200" y="0"/>
                </a:lnTo>
                <a:lnTo>
                  <a:pt x="16200" y="10800"/>
                </a:lnTo>
                <a:lnTo>
                  <a:pt x="21600" y="10800"/>
                </a:lnTo>
                <a:lnTo>
                  <a:pt x="10800" y="21600"/>
                </a:lnTo>
                <a:close/>
              </a:path>
            </a:pathLst>
          </a:custGeom>
          <a:solidFill>
            <a:schemeClr val="accent1"/>
          </a:solidFill>
          <a:ln w="12700">
            <a:solidFill>
              <a:srgbClr val="325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Calibri"/>
            </a:endParaRPr>
          </a:p>
        </p:txBody>
      </p:sp>
      <p:sp>
        <p:nvSpPr>
          <p:cNvPr id="236" name="CuadroTexto 5"/>
          <p:cNvSpPr/>
          <p:nvPr/>
        </p:nvSpPr>
        <p:spPr>
          <a:xfrm>
            <a:off x="2856600" y="3867480"/>
            <a:ext cx="3123000" cy="3639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umenta el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AM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intracelu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CuadroTexto 6"/>
          <p:cNvSpPr/>
          <p:nvPr/>
        </p:nvSpPr>
        <p:spPr>
          <a:xfrm>
            <a:off x="4739040" y="3881520"/>
            <a:ext cx="5636880" cy="3639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loquea la degradación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AM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intracelu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Flecha curvada hacia la derecha 7"/>
          <p:cNvGrpSpPr/>
          <p:nvPr/>
        </p:nvGrpSpPr>
        <p:grpSpPr>
          <a:xfrm>
            <a:off x="3290760" y="4371840"/>
            <a:ext cx="628560" cy="783360"/>
            <a:chOff x="3290760" y="4371840"/>
            <a:chExt cx="628560" cy="783360"/>
          </a:xfrm>
        </p:grpSpPr>
        <p:sp>
          <p:nvSpPr>
            <p:cNvPr id="239" name="Figura"/>
            <p:cNvSpPr/>
            <p:nvPr/>
          </p:nvSpPr>
          <p:spPr>
            <a:xfrm>
              <a:off x="3290760" y="4371840"/>
              <a:ext cx="628560" cy="783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19374" h="21600">
                  <a:moveTo>
                    <a:pt x="5" y="7674"/>
                  </a:moveTo>
                  <a:cubicBezTo>
                    <a:pt x="5" y="11173"/>
                    <a:pt x="5980" y="14229"/>
                    <a:pt x="14532" y="15104"/>
                  </a:cubicBezTo>
                  <a:lnTo>
                    <a:pt x="14532" y="12938"/>
                  </a:lnTo>
                  <a:lnTo>
                    <a:pt x="19374" y="17513"/>
                  </a:lnTo>
                  <a:lnTo>
                    <a:pt x="14532" y="21600"/>
                  </a:lnTo>
                  <a:lnTo>
                    <a:pt x="14532" y="19435"/>
                  </a:lnTo>
                  <a:lnTo>
                    <a:pt x="14532" y="19435"/>
                  </a:lnTo>
                  <a:cubicBezTo>
                    <a:pt x="5980" y="18560"/>
                    <a:pt x="5" y="15504"/>
                    <a:pt x="5" y="12005"/>
                  </a:cubicBezTo>
                  <a:close/>
                  <a:moveTo>
                    <a:pt x="19374" y="4331"/>
                  </a:moveTo>
                  <a:cubicBezTo>
                    <a:pt x="10782" y="4331"/>
                    <a:pt x="3217" y="6573"/>
                    <a:pt x="793" y="9839"/>
                  </a:cubicBezTo>
                  <a:cubicBezTo>
                    <a:pt x="-2226" y="5773"/>
                    <a:pt x="3646" y="1508"/>
                    <a:pt x="13909" y="312"/>
                  </a:cubicBezTo>
                  <a:cubicBezTo>
                    <a:pt x="15683" y="105"/>
                    <a:pt x="17524" y="0"/>
                    <a:pt x="19374" y="0"/>
                  </a:cubicBezTo>
                  <a:close/>
                </a:path>
              </a:pathLst>
            </a:custGeom>
            <a:solidFill>
              <a:schemeClr val="accent1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45720" rIns="45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Calibri"/>
              </a:endParaRPr>
            </a:p>
          </p:txBody>
        </p:sp>
        <p:sp>
          <p:nvSpPr>
            <p:cNvPr id="240" name="Figura"/>
            <p:cNvSpPr/>
            <p:nvPr/>
          </p:nvSpPr>
          <p:spPr>
            <a:xfrm>
              <a:off x="3290760" y="4371840"/>
              <a:ext cx="628560" cy="3567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56760"/>
                <a:gd name="textAreaBottom" fmla="*/ 357120 h 356760"/>
              </a:gdLst>
              <a:ahLst/>
              <a:rect l="textAreaLeft" t="textAreaTop" r="textAreaRight" b="textAreaBottom"/>
              <a:pathLst>
                <a:path w="19374" h="21600">
                  <a:moveTo>
                    <a:pt x="19374" y="9507"/>
                  </a:moveTo>
                  <a:cubicBezTo>
                    <a:pt x="10782" y="9507"/>
                    <a:pt x="3217" y="14431"/>
                    <a:pt x="793" y="21600"/>
                  </a:cubicBezTo>
                  <a:cubicBezTo>
                    <a:pt x="-2226" y="12674"/>
                    <a:pt x="3646" y="3310"/>
                    <a:pt x="13909" y="685"/>
                  </a:cubicBezTo>
                  <a:cubicBezTo>
                    <a:pt x="15683" y="231"/>
                    <a:pt x="17524" y="0"/>
                    <a:pt x="19374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45720" rIns="45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Calibri"/>
              </a:endParaRPr>
            </a:p>
          </p:txBody>
        </p:sp>
        <p:sp>
          <p:nvSpPr>
            <p:cNvPr id="241" name="Línea"/>
            <p:cNvSpPr/>
            <p:nvPr/>
          </p:nvSpPr>
          <p:spPr>
            <a:xfrm>
              <a:off x="3291120" y="4371840"/>
              <a:ext cx="628200" cy="783360"/>
            </a:xfrm>
            <a:custGeom>
              <a:avLst/>
              <a:gdLst>
                <a:gd name="textAreaLeft" fmla="*/ 0 w 628200"/>
                <a:gd name="textAreaRight" fmla="*/ 628560 w 62820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7674"/>
                  </a:moveTo>
                  <a:cubicBezTo>
                    <a:pt x="0" y="11173"/>
                    <a:pt x="6663" y="14229"/>
                    <a:pt x="16200" y="15104"/>
                  </a:cubicBezTo>
                  <a:lnTo>
                    <a:pt x="16200" y="12938"/>
                  </a:lnTo>
                  <a:lnTo>
                    <a:pt x="21600" y="17513"/>
                  </a:lnTo>
                  <a:lnTo>
                    <a:pt x="16200" y="21600"/>
                  </a:lnTo>
                  <a:lnTo>
                    <a:pt x="16200" y="19435"/>
                  </a:lnTo>
                  <a:lnTo>
                    <a:pt x="16200" y="19435"/>
                  </a:lnTo>
                  <a:cubicBezTo>
                    <a:pt x="6663" y="18560"/>
                    <a:pt x="0" y="15504"/>
                    <a:pt x="0" y="12005"/>
                  </a:cubicBezTo>
                  <a:lnTo>
                    <a:pt x="0" y="7674"/>
                  </a:lnTo>
                  <a:cubicBezTo>
                    <a:pt x="0" y="3436"/>
                    <a:pt x="9671" y="0"/>
                    <a:pt x="21600" y="0"/>
                  </a:cubicBezTo>
                  <a:lnTo>
                    <a:pt x="21600" y="4331"/>
                  </a:lnTo>
                  <a:cubicBezTo>
                    <a:pt x="12018" y="4331"/>
                    <a:pt x="3582" y="6573"/>
                    <a:pt x="878" y="9839"/>
                  </a:cubicBezTo>
                </a:path>
              </a:pathLst>
            </a:custGeom>
            <a:noFill/>
            <a:ln w="12700">
              <a:solidFill>
                <a:srgbClr val="3253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45720" rIns="45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Calibri"/>
              </a:endParaRPr>
            </a:p>
          </p:txBody>
        </p:sp>
      </p:grpSp>
      <p:grpSp>
        <p:nvGrpSpPr>
          <p:cNvPr id="242" name="Flecha curvada hacia la izquierda 8"/>
          <p:cNvGrpSpPr/>
          <p:nvPr/>
        </p:nvGrpSpPr>
        <p:grpSpPr>
          <a:xfrm>
            <a:off x="7633800" y="4337640"/>
            <a:ext cx="613080" cy="816840"/>
            <a:chOff x="7633800" y="4337640"/>
            <a:chExt cx="613080" cy="816840"/>
          </a:xfrm>
        </p:grpSpPr>
        <p:sp>
          <p:nvSpPr>
            <p:cNvPr id="243" name="Figura"/>
            <p:cNvSpPr/>
            <p:nvPr/>
          </p:nvSpPr>
          <p:spPr>
            <a:xfrm>
              <a:off x="7633800" y="4337640"/>
              <a:ext cx="613080" cy="816840"/>
            </a:xfrm>
            <a:custGeom>
              <a:avLst/>
              <a:gdLst>
                <a:gd name="textAreaLeft" fmla="*/ 0 w 613080"/>
                <a:gd name="textAreaRight" fmla="*/ 613440 w 613080"/>
                <a:gd name="textAreaTop" fmla="*/ 0 h 816840"/>
                <a:gd name="textAreaBottom" fmla="*/ 817200 h 816840"/>
              </a:gdLst>
              <a:ahLst/>
              <a:rect l="textAreaLeft" t="textAreaTop" r="textAreaRight" b="textAreaBottom"/>
              <a:pathLst>
                <a:path w="19494" h="21600">
                  <a:moveTo>
                    <a:pt x="0" y="17799"/>
                  </a:moveTo>
                  <a:lnTo>
                    <a:pt x="4872" y="13497"/>
                  </a:lnTo>
                  <a:lnTo>
                    <a:pt x="4872" y="15523"/>
                  </a:lnTo>
                  <a:lnTo>
                    <a:pt x="4872" y="15523"/>
                  </a:lnTo>
                  <a:cubicBezTo>
                    <a:pt x="11689" y="14811"/>
                    <a:pt x="17027" y="12666"/>
                    <a:pt x="18835" y="9912"/>
                  </a:cubicBezTo>
                  <a:cubicBezTo>
                    <a:pt x="21600" y="14122"/>
                    <a:pt x="15408" y="18441"/>
                    <a:pt x="5006" y="19560"/>
                  </a:cubicBezTo>
                  <a:cubicBezTo>
                    <a:pt x="4961" y="19565"/>
                    <a:pt x="4917" y="19570"/>
                    <a:pt x="4872" y="19574"/>
                  </a:cubicBezTo>
                  <a:lnTo>
                    <a:pt x="4872" y="21600"/>
                  </a:lnTo>
                  <a:close/>
                  <a:moveTo>
                    <a:pt x="19489" y="11938"/>
                  </a:moveTo>
                  <a:cubicBezTo>
                    <a:pt x="19489" y="7582"/>
                    <a:pt x="10764" y="4051"/>
                    <a:pt x="0" y="4051"/>
                  </a:cubicBezTo>
                  <a:lnTo>
                    <a:pt x="0" y="0"/>
                  </a:lnTo>
                  <a:cubicBezTo>
                    <a:pt x="10764" y="0"/>
                    <a:pt x="19489" y="3531"/>
                    <a:pt x="19489" y="7887"/>
                  </a:cubicBezTo>
                  <a:close/>
                </a:path>
              </a:pathLst>
            </a:custGeom>
            <a:solidFill>
              <a:schemeClr val="accent1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45720" rIns="45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Calibri"/>
              </a:endParaRPr>
            </a:p>
          </p:txBody>
        </p:sp>
        <p:sp>
          <p:nvSpPr>
            <p:cNvPr id="244" name="Figura"/>
            <p:cNvSpPr/>
            <p:nvPr/>
          </p:nvSpPr>
          <p:spPr>
            <a:xfrm>
              <a:off x="7633800" y="4337640"/>
              <a:ext cx="612720" cy="451440"/>
            </a:xfrm>
            <a:custGeom>
              <a:avLst/>
              <a:gdLst>
                <a:gd name="textAreaLeft" fmla="*/ 0 w 612720"/>
                <a:gd name="textAreaRight" fmla="*/ 613080 w 612720"/>
                <a:gd name="textAreaTop" fmla="*/ 0 h 451440"/>
                <a:gd name="textAreaBottom" fmla="*/ 451800 h 45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21600"/>
                  </a:moveTo>
                  <a:cubicBezTo>
                    <a:pt x="21600" y="13719"/>
                    <a:pt x="11929" y="7330"/>
                    <a:pt x="0" y="7330"/>
                  </a:cubicBezTo>
                  <a:lnTo>
                    <a:pt x="0" y="0"/>
                  </a:lnTo>
                  <a:cubicBezTo>
                    <a:pt x="11929" y="0"/>
                    <a:pt x="21600" y="6389"/>
                    <a:pt x="21600" y="1427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45720" rIns="45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Calibri"/>
              </a:endParaRPr>
            </a:p>
          </p:txBody>
        </p:sp>
        <p:sp>
          <p:nvSpPr>
            <p:cNvPr id="245" name="Línea"/>
            <p:cNvSpPr/>
            <p:nvPr/>
          </p:nvSpPr>
          <p:spPr>
            <a:xfrm>
              <a:off x="7633800" y="4337640"/>
              <a:ext cx="612720" cy="816840"/>
            </a:xfrm>
            <a:custGeom>
              <a:avLst/>
              <a:gdLst>
                <a:gd name="textAreaLeft" fmla="*/ 0 w 612720"/>
                <a:gd name="textAreaRight" fmla="*/ 613080 w 612720"/>
                <a:gd name="textAreaTop" fmla="*/ 0 h 816840"/>
                <a:gd name="textAreaBottom" fmla="*/ 817200 h 81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11938"/>
                  </a:moveTo>
                  <a:cubicBezTo>
                    <a:pt x="21600" y="7582"/>
                    <a:pt x="11929" y="4051"/>
                    <a:pt x="0" y="4051"/>
                  </a:cubicBezTo>
                  <a:lnTo>
                    <a:pt x="0" y="0"/>
                  </a:lnTo>
                  <a:cubicBezTo>
                    <a:pt x="11929" y="0"/>
                    <a:pt x="21600" y="3531"/>
                    <a:pt x="21600" y="7887"/>
                  </a:cubicBezTo>
                  <a:lnTo>
                    <a:pt x="21600" y="11938"/>
                  </a:lnTo>
                  <a:cubicBezTo>
                    <a:pt x="21600" y="15534"/>
                    <a:pt x="14937" y="18675"/>
                    <a:pt x="5400" y="19574"/>
                  </a:cubicBezTo>
                  <a:lnTo>
                    <a:pt x="5400" y="21600"/>
                  </a:lnTo>
                  <a:lnTo>
                    <a:pt x="0" y="17799"/>
                  </a:lnTo>
                  <a:lnTo>
                    <a:pt x="5400" y="13497"/>
                  </a:lnTo>
                  <a:lnTo>
                    <a:pt x="5400" y="15523"/>
                  </a:lnTo>
                  <a:lnTo>
                    <a:pt x="5400" y="15523"/>
                  </a:lnTo>
                  <a:cubicBezTo>
                    <a:pt x="12955" y="14811"/>
                    <a:pt x="18871" y="12666"/>
                    <a:pt x="20875" y="9912"/>
                  </a:cubicBezTo>
                </a:path>
              </a:pathLst>
            </a:custGeom>
            <a:noFill/>
            <a:ln w="12700">
              <a:solidFill>
                <a:srgbClr val="3253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45720" rIns="45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Calibri"/>
              </a:endParaRPr>
            </a:p>
          </p:txBody>
        </p:sp>
      </p:grpSp>
      <p:sp>
        <p:nvSpPr>
          <p:cNvPr id="246" name="CuadroTexto 9"/>
          <p:cNvSpPr/>
          <p:nvPr/>
        </p:nvSpPr>
        <p:spPr>
          <a:xfrm>
            <a:off x="4735440" y="4768200"/>
            <a:ext cx="1894320" cy="6382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DISMINUCIÓN FUGA CAPI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12600">
            <a:noFill/>
          </a:ln>
        </p:spPr>
        <p:txBody>
          <a:bodyPr lIns="45720" rIns="45720" tIns="45000" bIns="450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Calibri Light"/>
              </a:rPr>
              <a:t>NUESTRO CA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12600">
            <a:noFill/>
          </a:ln>
        </p:spPr>
        <p:txBody>
          <a:bodyPr lIns="45720" rIns="45720" tIns="45000" bIns="45000" anchor="t">
            <a:noAutofit/>
          </a:bodyPr>
          <a:p>
            <a:pPr marL="223920" indent="-223920">
              <a:lnSpc>
                <a:spcPct val="81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740" spc="-1" strike="noStrike">
                <a:solidFill>
                  <a:srgbClr val="000000"/>
                </a:solidFill>
                <a:latin typeface="Calibri"/>
                <a:ea typeface="Calibri"/>
              </a:rPr>
              <a:t>Inicio tto Ig Iv 2 gr/kg/mes el día 29/1/2018</a:t>
            </a:r>
            <a:endParaRPr b="0" lang="en-US" sz="274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1000"/>
              </a:lnSpc>
              <a:spcBef>
                <a:spcPts val="901"/>
              </a:spcBef>
              <a:buNone/>
            </a:pPr>
            <a:endParaRPr b="0" lang="en-US" sz="274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81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740" spc="-1" strike="noStrike">
                <a:solidFill>
                  <a:srgbClr val="000000"/>
                </a:solidFill>
                <a:latin typeface="Calibri"/>
                <a:ea typeface="Calibri"/>
              </a:rPr>
              <a:t>Actualmente 45 ciclos a dosis 1,5 gr/kg/mes</a:t>
            </a:r>
            <a:endParaRPr b="0" lang="en-US" sz="274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1000"/>
              </a:lnSpc>
              <a:spcBef>
                <a:spcPts val="901"/>
              </a:spcBef>
              <a:buNone/>
            </a:pPr>
            <a:endParaRPr b="0" lang="en-US" sz="274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81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740" spc="-1" strike="noStrike">
                <a:solidFill>
                  <a:srgbClr val="000000"/>
                </a:solidFill>
                <a:latin typeface="Calibri"/>
                <a:ea typeface="Calibri"/>
              </a:rPr>
              <a:t>Vacunada SARS COV2 PZIFER 15/5/2021 y  5/6/2021</a:t>
            </a:r>
            <a:endParaRPr b="0" lang="en-US" sz="274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1000"/>
              </a:lnSpc>
              <a:spcBef>
                <a:spcPts val="901"/>
              </a:spcBef>
              <a:buNone/>
            </a:pPr>
            <a:endParaRPr b="0" lang="en-US" sz="274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81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740" spc="-1" strike="noStrike">
                <a:solidFill>
                  <a:srgbClr val="000000"/>
                </a:solidFill>
                <a:latin typeface="Calibri"/>
                <a:ea typeface="Calibri"/>
              </a:rPr>
              <a:t>COVID + el día 4 de Enero 2022, síntomas leves. </a:t>
            </a:r>
            <a:endParaRPr b="0" lang="en-US" sz="274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1000"/>
              </a:lnSpc>
              <a:spcBef>
                <a:spcPts val="901"/>
              </a:spcBef>
              <a:buNone/>
            </a:pPr>
            <a:endParaRPr b="0" lang="en-US" sz="274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81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740" spc="-1" strike="noStrike">
                <a:solidFill>
                  <a:srgbClr val="000000"/>
                </a:solidFill>
                <a:latin typeface="Calibri"/>
                <a:ea typeface="Calibri"/>
              </a:rPr>
              <a:t>No recurrencias, no incidencias</a:t>
            </a:r>
            <a:endParaRPr b="0" lang="en-US" sz="274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Imagen 5" descr="Imagen 5"/>
          <p:cNvPicPr/>
          <p:nvPr/>
        </p:nvPicPr>
        <p:blipFill>
          <a:blip r:embed="rId1"/>
          <a:stretch/>
        </p:blipFill>
        <p:spPr>
          <a:xfrm>
            <a:off x="1835280" y="476280"/>
            <a:ext cx="8521200" cy="5905080"/>
          </a:xfrm>
          <a:prstGeom prst="rect">
            <a:avLst/>
          </a:prstGeom>
          <a:ln w="1270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1260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 Light"/>
              <a:ea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12600">
            <a:noFill/>
          </a:ln>
        </p:spPr>
        <p:txBody>
          <a:bodyPr lIns="45720" rIns="45720"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pic>
        <p:nvPicPr>
          <p:cNvPr id="252" name="Imagen 3" descr="Imagen 3"/>
          <p:cNvPicPr/>
          <p:nvPr/>
        </p:nvPicPr>
        <p:blipFill>
          <a:blip r:embed="rId1"/>
          <a:stretch/>
        </p:blipFill>
        <p:spPr>
          <a:xfrm>
            <a:off x="0" y="317880"/>
            <a:ext cx="12191760" cy="6221880"/>
          </a:xfrm>
          <a:prstGeom prst="rect">
            <a:avLst/>
          </a:prstGeom>
          <a:ln w="1270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12600">
            <a:noFill/>
          </a:ln>
        </p:spPr>
        <p:txBody>
          <a:bodyPr lIns="45720" rIns="45720" tIns="45000" bIns="450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Calibri Light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889160"/>
          </a:xfrm>
          <a:prstGeom prst="rect">
            <a:avLst/>
          </a:prstGeom>
          <a:noFill/>
          <a:ln w="12600">
            <a:noFill/>
          </a:ln>
        </p:spPr>
        <p:txBody>
          <a:bodyPr lIns="45720" rIns="45720" tIns="45000" bIns="45000" anchor="t">
            <a:noAutofit/>
          </a:bodyPr>
          <a:p>
            <a:pPr marL="228600" indent="-228600">
              <a:lnSpc>
                <a:spcPct val="72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El síndrome de extravasación vascular se realiza por dx de exclusión ante hipovolemia + edema generalizado + la triada: hipotensión, hipoalbuminemia y hemoconcentració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2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Tener en cuenta la presentación clínica por etapas (pródromos, extravasación líquidos, recuperación) para evitar errores en el diagnóstico y tratamient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2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El tratamiento emergente consiste en asegurar vía aérea, administración conservadora de líquidos y vasopresores para evitar sobrecarga de volumen (EAP, sd compartimental). Puede ser necesario el uso de diuréticos o ultrafiltració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2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El tratamiento preventivo de primera línea consiste en infusiones mensuales de Ig iv (2C) 1gr-2gr/kg/mes. En segunda línea terbutailina y teofilina (2c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2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2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SI NO SE SOSPECHA, NO SE DIAGNOSTICA Y… NO SE TRATA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12600">
            <a:noFill/>
          </a:ln>
        </p:spPr>
        <p:txBody>
          <a:bodyPr lIns="45720" rIns="45720" tIns="45000" bIns="450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Calibri Light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12600">
            <a:noFill/>
          </a:ln>
        </p:spPr>
        <p:txBody>
          <a:bodyPr lIns="45720" rIns="45720" tIns="45000" bIns="45000" anchor="t">
            <a:noAutofit/>
          </a:bodyPr>
          <a:p>
            <a:pPr marL="223920" indent="-223920">
              <a:lnSpc>
                <a:spcPct val="72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660" spc="-1" strike="noStrike">
                <a:solidFill>
                  <a:srgbClr val="000000"/>
                </a:solidFill>
                <a:latin typeface="Calibri"/>
                <a:ea typeface="Calibri"/>
              </a:rPr>
              <a:t>Rajesh Aneja, MD. FAAP.  (Septiembre 2021). Idiopathic systemic capillary leak síndrome. UpToDate. </a:t>
            </a:r>
            <a:r>
              <a:rPr b="0" lang="en-US" sz="166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1"/>
              </a:rPr>
              <a:t>https://www-uptodate-com.bvsspa.idm.oclc.org/contents/idiopathic-systemic-capillary-leak-syndrome?search=sindrome%20fuca%20capilar&amp;source=search_result&amp;selectedTitle=1~145&amp;usage_type=default&amp;display_rank</a:t>
            </a:r>
            <a:r>
              <a:rPr b="0" lang="en-US" sz="166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2"/>
              </a:rPr>
              <a:t>=</a:t>
            </a:r>
            <a:r>
              <a:rPr b="0" lang="en-US" sz="166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3"/>
              </a:rPr>
              <a:t>1</a:t>
            </a:r>
            <a:endParaRPr b="0" lang="en-US" sz="166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72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660" spc="-1" strike="noStrike">
                <a:solidFill>
                  <a:srgbClr val="000000"/>
                </a:solidFill>
                <a:latin typeface="Calibri"/>
                <a:ea typeface="Calibri"/>
              </a:rPr>
              <a:t>Gousseff M, Arnaud L, Lambert M, et al. The systemic capillary leak síndrome: a case series of 28 patients from a European registry. Ann Intern Med 2011; 154:464</a:t>
            </a:r>
            <a:endParaRPr b="0" lang="en-US" sz="166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72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660" spc="-1" strike="noStrike">
                <a:solidFill>
                  <a:srgbClr val="000000"/>
                </a:solidFill>
                <a:latin typeface="Calibri"/>
                <a:ea typeface="Calibri"/>
              </a:rPr>
              <a:t>Pineton de Chambrun M, Gousseff M, Mauhin W, et al. Intravenous Immunoglobulins Improve Survival in Monoclonal Gammopathy-Associated Systemic Capillary-Leak Syndrome. Am J Med 2017; 130: 1219. e19</a:t>
            </a:r>
            <a:endParaRPr b="0" lang="en-US" sz="166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72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660" spc="-1" strike="noStrike">
                <a:solidFill>
                  <a:srgbClr val="000000"/>
                </a:solidFill>
                <a:latin typeface="Calibri"/>
                <a:ea typeface="Calibri"/>
              </a:rPr>
              <a:t>Gousseff M, Amoura Z. Idiopathic capillary leak syncrome. Rev Med Interne 2009; 30:754</a:t>
            </a:r>
            <a:endParaRPr b="0" lang="en-US" sz="166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72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660" spc="-1" strike="noStrike">
                <a:solidFill>
                  <a:srgbClr val="000000"/>
                </a:solidFill>
                <a:latin typeface="Calibri"/>
                <a:ea typeface="Calibri"/>
              </a:rPr>
              <a:t>Xie Z, Chan E, Yin Y. Inflammatory Markers of the Systemic Capillary Leak Syndrome (Clarkson Disease). J Clin Cell Immunol. 2014;5:1000213. </a:t>
            </a:r>
            <a:endParaRPr b="0" lang="en-US" sz="166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72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660" spc="-1" strike="noStrike">
                <a:solidFill>
                  <a:srgbClr val="000000"/>
                </a:solidFill>
                <a:latin typeface="Calibri"/>
                <a:ea typeface="Calibri"/>
              </a:rPr>
              <a:t>Abbas R, Zhihui X, Eunice C. A natural mouse model reveals genetic determinants of systemic capillary leak syndrome (Clarkson disease). Commun Biol. 2019;2:398. </a:t>
            </a:r>
            <a:endParaRPr b="0" lang="en-US" sz="166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72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660" spc="-1" strike="noStrike">
                <a:solidFill>
                  <a:srgbClr val="000000"/>
                </a:solidFill>
                <a:latin typeface="Calibri"/>
                <a:ea typeface="Calibri"/>
              </a:rPr>
              <a:t>Bozzini MA, Milani GP, Bianchetti MG, Fossali EF, Lava SAG. Idiopathic systemic capillary leak syndrome (Clarkson syndrome) in childhood: systematic literature review. Eur J Pediatr. 2018;177:1149-54. </a:t>
            </a:r>
            <a:endParaRPr b="0" lang="en-US" sz="166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72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660" spc="-1" strike="noStrike">
                <a:solidFill>
                  <a:srgbClr val="000000"/>
                </a:solidFill>
                <a:latin typeface="Calibri"/>
                <a:ea typeface="Calibri"/>
              </a:rPr>
              <a:t>Eo TS, Chun KJ, Hong SJ. Clinical Presentation, Management, and Prognostic Factors of Idiopathic Systemic Capillary Leak Syndrome: A Systematic Review. J Allergy Clin Immunol Pract. 2018;6:609-18 </a:t>
            </a:r>
            <a:endParaRPr b="0" lang="en-US" sz="166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1260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Calibri Light"/>
              </a:rPr>
              <a:t>PRUEBAS COMPLEMENTARIAS DE URGENCI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12600">
            <a:noFill/>
          </a:ln>
        </p:spPr>
        <p:txBody>
          <a:bodyPr lIns="45720" rIns="45720" tIns="45000" bIns="45000" anchor="t">
            <a:noAutofit/>
          </a:bodyPr>
          <a:p>
            <a:pPr marL="221760" indent="-2217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720" spc="-1" strike="noStrike">
                <a:solidFill>
                  <a:srgbClr val="000000"/>
                </a:solidFill>
                <a:latin typeface="Calibri"/>
                <a:ea typeface="Calibri"/>
              </a:rPr>
              <a:t>BQ: EFG 32 ml/min, hipoproteinemia (4,5 g/dl) con hipoalbuminemia (2,1 g/dl), CPK 488 U/L , trop 0,069 ng/ml, PCR 8,9 mg/L, resto ⍉</a:t>
            </a:r>
            <a:endParaRPr b="0" lang="en-US" sz="2720" spc="-1" strike="noStrike">
              <a:solidFill>
                <a:srgbClr val="000000"/>
              </a:solidFill>
              <a:latin typeface="Calibri"/>
            </a:endParaRPr>
          </a:p>
          <a:p>
            <a:pPr marL="221760" indent="-2217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720" spc="-1" strike="noStrike">
                <a:solidFill>
                  <a:srgbClr val="000000"/>
                </a:solidFill>
                <a:latin typeface="Calibri"/>
                <a:ea typeface="Calibri"/>
              </a:rPr>
              <a:t>HGR: hemoconcentración (Hb 21,4 g/dL, Hto 65,8%) </a:t>
            </a:r>
            <a:endParaRPr b="0" lang="en-US" sz="2720" spc="-1" strike="noStrike">
              <a:solidFill>
                <a:srgbClr val="000000"/>
              </a:solidFill>
              <a:latin typeface="Calibri"/>
            </a:endParaRPr>
          </a:p>
          <a:p>
            <a:pPr marL="221760" indent="-2217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720" spc="-1" strike="noStrike">
                <a:solidFill>
                  <a:srgbClr val="000000"/>
                </a:solidFill>
                <a:latin typeface="Calibri"/>
                <a:ea typeface="Calibri"/>
              </a:rPr>
              <a:t>GV: acidosis metabólica con pH 7,16 y HCO3– 11,5 mmol/l, láctico 4,5 mmol/L</a:t>
            </a:r>
            <a:endParaRPr b="0" lang="en-US" sz="2720" spc="-1" strike="noStrike">
              <a:solidFill>
                <a:srgbClr val="000000"/>
              </a:solidFill>
              <a:latin typeface="Calibri"/>
            </a:endParaRPr>
          </a:p>
          <a:p>
            <a:pPr marL="221760" indent="-2217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720" spc="-1" strike="noStrike">
                <a:solidFill>
                  <a:srgbClr val="000000"/>
                </a:solidFill>
                <a:latin typeface="Calibri"/>
                <a:ea typeface="Calibri"/>
              </a:rPr>
              <a:t>EXUDADO NASOFARINGEO: PCR gripe B positiva</a:t>
            </a:r>
            <a:endParaRPr b="0" lang="en-US" sz="2720" spc="-1" strike="noStrike">
              <a:solidFill>
                <a:srgbClr val="000000"/>
              </a:solidFill>
              <a:latin typeface="Calibri"/>
            </a:endParaRPr>
          </a:p>
          <a:p>
            <a:pPr marL="221760" indent="-2217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720" spc="-1" strike="noStrike">
                <a:solidFill>
                  <a:srgbClr val="000000"/>
                </a:solidFill>
                <a:latin typeface="Calibri"/>
                <a:ea typeface="Calibri"/>
              </a:rPr>
              <a:t>COAG: ⍉</a:t>
            </a:r>
            <a:endParaRPr b="0" lang="en-US" sz="2720" spc="-1" strike="noStrike">
              <a:solidFill>
                <a:srgbClr val="000000"/>
              </a:solidFill>
              <a:latin typeface="Calibri"/>
            </a:endParaRPr>
          </a:p>
          <a:p>
            <a:pPr marL="221760" indent="-2217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720" spc="-1" strike="noStrike">
                <a:solidFill>
                  <a:srgbClr val="000000"/>
                </a:solidFill>
                <a:latin typeface="Calibri"/>
                <a:ea typeface="Calibri"/>
              </a:rPr>
              <a:t>ECG: </a:t>
            </a:r>
            <a:endParaRPr b="0" lang="en-US" sz="2720" spc="-1" strike="noStrike">
              <a:solidFill>
                <a:srgbClr val="000000"/>
              </a:solidFill>
              <a:latin typeface="Calibri"/>
            </a:endParaRPr>
          </a:p>
          <a:p>
            <a:pPr marL="221760" indent="-2217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720" spc="-1" strike="noStrike">
                <a:solidFill>
                  <a:srgbClr val="000000"/>
                </a:solidFill>
                <a:latin typeface="Calibri"/>
                <a:ea typeface="Calibri"/>
              </a:rPr>
              <a:t>RX TORAX: </a:t>
            </a:r>
            <a:endParaRPr b="0" lang="en-US" sz="272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12600">
            <a:noFill/>
          </a:ln>
        </p:spPr>
        <p:txBody>
          <a:bodyPr lIns="45720" rIns="45720" tIns="45000" bIns="450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  <a:ea typeface="Calibri Light"/>
              </a:rPr>
              <a:t>GRACIA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Picture 2" descr="Picture 2"/>
          <p:cNvPicPr/>
          <p:nvPr/>
        </p:nvPicPr>
        <p:blipFill>
          <a:blip r:embed="rId1"/>
          <a:stretch/>
        </p:blipFill>
        <p:spPr>
          <a:xfrm>
            <a:off x="2272680" y="1981080"/>
            <a:ext cx="7646400" cy="4511160"/>
          </a:xfrm>
          <a:prstGeom prst="rect">
            <a:avLst/>
          </a:prstGeom>
          <a:ln w="1270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1260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 Light"/>
              <a:ea typeface="Calibri Light"/>
            </a:endParaRPr>
          </a:p>
        </p:txBody>
      </p:sp>
      <p:pic>
        <p:nvPicPr>
          <p:cNvPr id="94" name="Imagen 3" descr="Imagen 3"/>
          <p:cNvPicPr/>
          <p:nvPr/>
        </p:nvPicPr>
        <p:blipFill>
          <a:blip r:embed="rId1"/>
          <a:stretch/>
        </p:blipFill>
        <p:spPr>
          <a:xfrm>
            <a:off x="40680" y="0"/>
            <a:ext cx="6531120" cy="4784760"/>
          </a:xfrm>
          <a:prstGeom prst="rect">
            <a:avLst/>
          </a:prstGeom>
          <a:ln w="12700">
            <a:noFill/>
          </a:ln>
        </p:spPr>
      </p:pic>
      <p:pic>
        <p:nvPicPr>
          <p:cNvPr id="95" name="Marcador de contenido 4" descr="Marcador de contenido 4"/>
          <p:cNvPicPr/>
          <p:nvPr/>
        </p:nvPicPr>
        <p:blipFill>
          <a:blip r:embed="rId2"/>
          <a:stretch/>
        </p:blipFill>
        <p:spPr>
          <a:xfrm>
            <a:off x="4109040" y="216720"/>
            <a:ext cx="8082720" cy="4350960"/>
          </a:xfrm>
          <a:prstGeom prst="rect">
            <a:avLst/>
          </a:prstGeom>
          <a:ln w="12700">
            <a:noFill/>
          </a:ln>
        </p:spPr>
      </p:pic>
      <p:sp>
        <p:nvSpPr>
          <p:cNvPr id="96" name="CuadroTexto 5"/>
          <p:cNvSpPr/>
          <p:nvPr/>
        </p:nvSpPr>
        <p:spPr>
          <a:xfrm>
            <a:off x="2948400" y="5268240"/>
            <a:ext cx="6294600" cy="14612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NGIO TAC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: No signos de disección aortica ni TEPA. Liquido libre de cuantía peri-hepático , peri-vesicular , gotiera derecha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para-renal posterior derecho inespecífico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uadroTexto 6"/>
          <p:cNvSpPr/>
          <p:nvPr/>
        </p:nvSpPr>
        <p:spPr>
          <a:xfrm>
            <a:off x="3109320" y="3503160"/>
            <a:ext cx="5228280" cy="10040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  <a:ea typeface="Calibri"/>
              </a:rPr>
              <a:t>INGRESO EN UC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el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el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el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iterate type="el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12600">
            <a:noFill/>
          </a:ln>
        </p:spPr>
        <p:txBody>
          <a:bodyPr lIns="45720" rIns="45720" tIns="45000" bIns="450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Calibri Light"/>
              </a:rPr>
              <a:t>EVOLUCIÓN U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12600">
            <a:noFill/>
          </a:ln>
        </p:spPr>
        <p:txBody>
          <a:bodyPr lIns="45720" rIns="45720" tIns="45000" bIns="45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ula respuesta a reposición de volumen, sólo a bolus de coloi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recisa noradrenalina (30ml/hr)  y dopamina (7 mcg/kg/mi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nicio tto empírico  c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Imipenem 1gr/8 h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ts en descenso rápi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angría 900 ml (Hto 63 %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stabilización e ingreso en planta de Medicina Intern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12600">
            <a:noFill/>
          </a:ln>
        </p:spPr>
        <p:txBody>
          <a:bodyPr lIns="45720" rIns="45720" tIns="45000" bIns="450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Calibri Light"/>
              </a:rPr>
              <a:t>EVOLUCIÓN PLANTA </a:t>
            </a:r>
            <a:r>
              <a:rPr b="0" i="1" lang="en-US" sz="4400" spc="-1" strike="noStrike">
                <a:solidFill>
                  <a:srgbClr val="000000"/>
                </a:solidFill>
                <a:latin typeface="Calibri Light"/>
                <a:ea typeface="Calibri Light"/>
              </a:rPr>
              <a:t>MEDICINA INTERN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Calibri Light"/>
              </a:rPr>
              <a:t>PRUEBAS COMPLEMENTARIAS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690560"/>
            <a:ext cx="10515240" cy="3617640"/>
          </a:xfrm>
          <a:prstGeom prst="rect">
            <a:avLst/>
          </a:prstGeom>
          <a:noFill/>
          <a:ln w="12600">
            <a:noFill/>
          </a:ln>
        </p:spPr>
        <p:txBody>
          <a:bodyPr lIns="45720" rIns="45720" tIns="45000" bIns="45000" anchor="t">
            <a:noAutofit/>
          </a:bodyPr>
          <a:p>
            <a:pPr marL="214920" indent="-214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79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BQ:</a:t>
            </a:r>
            <a:r>
              <a:rPr b="0" lang="en-US" sz="1879" spc="-1" strike="noStrike">
                <a:solidFill>
                  <a:srgbClr val="000000"/>
                </a:solidFill>
                <a:latin typeface="Calibri"/>
                <a:ea typeface="Calibri"/>
              </a:rPr>
              <a:t> PCR 5mg/L, procalcitonina, Triptasa: ⍉ , </a:t>
            </a:r>
            <a:r>
              <a:rPr b="0" lang="en-US" sz="1879" spc="-1" strike="noStrike">
                <a:solidFill>
                  <a:srgbClr val="ff0000"/>
                </a:solidFill>
                <a:latin typeface="Calibri"/>
                <a:ea typeface="Calibri"/>
              </a:rPr>
              <a:t>CK: 24112 U/L, LDH 929U/L, </a:t>
            </a:r>
            <a:r>
              <a:rPr b="0" lang="en-US" sz="1879" spc="-1" strike="noStrike">
                <a:solidFill>
                  <a:srgbClr val="000000"/>
                </a:solidFill>
                <a:latin typeface="Calibri"/>
                <a:ea typeface="Calibri"/>
              </a:rPr>
              <a:t>corticotropina, cortisol, renina,  TSH:⍉</a:t>
            </a:r>
            <a:endParaRPr b="0" lang="en-US" sz="1879" spc="-1" strike="noStrike">
              <a:solidFill>
                <a:srgbClr val="000000"/>
              </a:solidFill>
              <a:latin typeface="Calibri"/>
            </a:endParaRPr>
          </a:p>
          <a:p>
            <a:pPr marL="214920" indent="-214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79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HEMOGRAMA:</a:t>
            </a:r>
            <a:r>
              <a:rPr b="0" lang="en-US" sz="1879" spc="-1" strike="noStrike">
                <a:solidFill>
                  <a:srgbClr val="000000"/>
                </a:solidFill>
                <a:latin typeface="Calibri"/>
                <a:ea typeface="Calibri"/>
              </a:rPr>
              <a:t> ⍉</a:t>
            </a:r>
            <a:endParaRPr b="0" lang="en-US" sz="1879" spc="-1" strike="noStrike">
              <a:solidFill>
                <a:srgbClr val="000000"/>
              </a:solidFill>
              <a:latin typeface="Calibri"/>
            </a:endParaRPr>
          </a:p>
          <a:p>
            <a:pPr marL="214920" indent="-214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79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COAGULACIÓN:</a:t>
            </a:r>
            <a:r>
              <a:rPr b="0" lang="en-US" sz="1879" spc="-1" strike="noStrike">
                <a:solidFill>
                  <a:srgbClr val="000000"/>
                </a:solidFill>
                <a:latin typeface="Calibri"/>
                <a:ea typeface="Calibri"/>
              </a:rPr>
              <a:t> ⍉</a:t>
            </a:r>
            <a:endParaRPr b="0" lang="en-US" sz="1879" spc="-1" strike="noStrike">
              <a:solidFill>
                <a:srgbClr val="000000"/>
              </a:solidFill>
              <a:latin typeface="Calibri"/>
            </a:endParaRPr>
          </a:p>
          <a:p>
            <a:pPr marL="214920" indent="-214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79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AUTOINMUNIDAD</a:t>
            </a:r>
            <a:r>
              <a:rPr b="0" lang="en-US" sz="1879" spc="-1" strike="noStrike">
                <a:solidFill>
                  <a:srgbClr val="000000"/>
                </a:solidFill>
                <a:latin typeface="Calibri"/>
                <a:ea typeface="Calibri"/>
              </a:rPr>
              <a:t>: ANA, FR, citrulinado, ac anti lkm, ac antimitocondriales, músculo liso, músculo estriado, ac anti 21 hidroxilasa, renina, C3,C4,C5: ⍉</a:t>
            </a:r>
            <a:endParaRPr b="0" lang="en-US" sz="1879" spc="-1" strike="noStrike">
              <a:solidFill>
                <a:srgbClr val="000000"/>
              </a:solidFill>
              <a:latin typeface="Calibri"/>
            </a:endParaRPr>
          </a:p>
          <a:p>
            <a:pPr marL="214920" indent="-214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79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SEROLOGIAS</a:t>
            </a:r>
            <a:r>
              <a:rPr b="0" lang="en-US" sz="1879" spc="-1" strike="noStrike">
                <a:solidFill>
                  <a:srgbClr val="000000"/>
                </a:solidFill>
                <a:latin typeface="Calibri"/>
                <a:ea typeface="Calibri"/>
              </a:rPr>
              <a:t>: chlamydia, mycoplasma, CMV, PARVOVIRUS, VIH, VEB: ⍉</a:t>
            </a:r>
            <a:endParaRPr b="0" lang="en-US" sz="1879" spc="-1" strike="noStrike">
              <a:solidFill>
                <a:srgbClr val="000000"/>
              </a:solidFill>
              <a:latin typeface="Calibri"/>
            </a:endParaRPr>
          </a:p>
          <a:p>
            <a:pPr marL="214920" indent="-214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79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PROTEINAS ESPECÍFICAS</a:t>
            </a:r>
            <a:r>
              <a:rPr b="0" lang="en-US" sz="1879" spc="-1" strike="noStrike">
                <a:solidFill>
                  <a:srgbClr val="000000"/>
                </a:solidFill>
                <a:latin typeface="Calibri"/>
                <a:ea typeface="Calibri"/>
              </a:rPr>
              <a:t>: </a:t>
            </a:r>
            <a:endParaRPr b="0" lang="en-US" sz="187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br>
              <a:rPr sz="1880"/>
            </a:br>
            <a:endParaRPr b="0" lang="en-US" sz="1879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Imagen 3" descr="Imagen 3"/>
          <p:cNvPicPr/>
          <p:nvPr/>
        </p:nvPicPr>
        <p:blipFill>
          <a:blip r:embed="rId1"/>
          <a:stretch/>
        </p:blipFill>
        <p:spPr>
          <a:xfrm>
            <a:off x="4619880" y="4457520"/>
            <a:ext cx="1744920" cy="2242800"/>
          </a:xfrm>
          <a:prstGeom prst="rect">
            <a:avLst/>
          </a:prstGeom>
          <a:ln w="12700">
            <a:noFill/>
          </a:ln>
        </p:spPr>
      </p:pic>
      <p:pic>
        <p:nvPicPr>
          <p:cNvPr id="103" name="Imagen 4" descr="Imagen 4"/>
          <p:cNvPicPr/>
          <p:nvPr/>
        </p:nvPicPr>
        <p:blipFill>
          <a:blip r:embed="rId2"/>
          <a:stretch/>
        </p:blipFill>
        <p:spPr>
          <a:xfrm>
            <a:off x="6365160" y="4457520"/>
            <a:ext cx="923760" cy="2236680"/>
          </a:xfrm>
          <a:prstGeom prst="rect">
            <a:avLst/>
          </a:prstGeom>
          <a:ln w="1270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12600">
            <a:noFill/>
          </a:ln>
        </p:spPr>
        <p:txBody>
          <a:bodyPr lIns="45720" rIns="45720" tIns="45000" bIns="450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Calibri Light"/>
              </a:rPr>
              <a:t>EVOLUCIÓN PLANTA </a:t>
            </a:r>
            <a:r>
              <a:rPr b="0" i="1" lang="en-US" sz="4400" spc="-1" strike="noStrike">
                <a:solidFill>
                  <a:srgbClr val="000000"/>
                </a:solidFill>
                <a:latin typeface="Calibri Light"/>
                <a:ea typeface="Calibri Light"/>
              </a:rPr>
              <a:t>MEDICINA INTERN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Calibri Light"/>
              </a:rPr>
              <a:t>PRUEBAS COMPLEMENTARIAS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12600">
            <a:noFill/>
          </a:ln>
        </p:spPr>
        <p:txBody>
          <a:bodyPr lIns="45720" rIns="45720"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PROTEINOGRAM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OMPONENETE M 2 %: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componenente monoglonal IG G lambd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ADENAS KAPPA LIBRES 181 (elevado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ADENAS LAMBDA 127 (elevado)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Orina 24 hora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: cortisol, catecolaminas, metanefrinas, cadenas ligeras ⍉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MICROBIOLOGI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: UROCULTIVO, HEMOCULTIVOS x 3: negativo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12600">
            <a:noFill/>
          </a:ln>
        </p:spPr>
        <p:txBody>
          <a:bodyPr lIns="45720" rIns="45720" tIns="45000" bIns="450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Calibri Light"/>
              </a:rPr>
              <a:t>EVOLUCIÓN PLANTA MEDICINA INTERN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Calibri Light"/>
              </a:rPr>
              <a:t>PRUEBAS COMPLEMENTARIAS I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12600">
            <a:noFill/>
          </a:ln>
        </p:spPr>
        <p:txBody>
          <a:bodyPr lIns="45720" rIns="45720"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COCARDIO T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: FE 73% y relajación normal. 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AC CON CIV TORAX/ABDOME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: No signos de TEP ni disección aortica. Liquido libre de escasa cuantía perihepático , perivesicular , gotiera derecha y pararrenal posterior derecho inespecíf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12600">
            <a:noFill/>
          </a:ln>
        </p:spPr>
        <p:txBody>
          <a:bodyPr lIns="45720" rIns="45720" tIns="45000" bIns="450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Calibri Light"/>
              </a:rPr>
              <a:t>EN RESUMEN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Elipse 4"/>
          <p:cNvGrpSpPr/>
          <p:nvPr/>
        </p:nvGrpSpPr>
        <p:grpSpPr>
          <a:xfrm>
            <a:off x="685800" y="2157480"/>
            <a:ext cx="4109760" cy="914040"/>
            <a:chOff x="685800" y="2157480"/>
            <a:chExt cx="4109760" cy="914040"/>
          </a:xfrm>
        </p:grpSpPr>
        <p:sp>
          <p:nvSpPr>
            <p:cNvPr id="110" name="Óvalo"/>
            <p:cNvSpPr/>
            <p:nvPr/>
          </p:nvSpPr>
          <p:spPr>
            <a:xfrm>
              <a:off x="685800" y="2157480"/>
              <a:ext cx="4109760" cy="91404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45720" rIns="45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Calibri"/>
              </a:endParaRPr>
            </a:p>
          </p:txBody>
        </p:sp>
        <p:sp>
          <p:nvSpPr>
            <p:cNvPr id="111" name="HIPOALBUMINEMIA (2,1gr/dL)"/>
            <p:cNvSpPr/>
            <p:nvPr/>
          </p:nvSpPr>
          <p:spPr>
            <a:xfrm>
              <a:off x="1339920" y="2294640"/>
              <a:ext cx="2801880" cy="63936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45720" rIns="457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HIPOALBUMINEMIA (2,1gr/d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Elipse 5"/>
          <p:cNvGrpSpPr/>
          <p:nvPr/>
        </p:nvGrpSpPr>
        <p:grpSpPr>
          <a:xfrm>
            <a:off x="685800" y="3914640"/>
            <a:ext cx="4157280" cy="828360"/>
            <a:chOff x="685800" y="3914640"/>
            <a:chExt cx="4157280" cy="828360"/>
          </a:xfrm>
        </p:grpSpPr>
        <p:sp>
          <p:nvSpPr>
            <p:cNvPr id="113" name="Óvalo"/>
            <p:cNvSpPr/>
            <p:nvPr/>
          </p:nvSpPr>
          <p:spPr>
            <a:xfrm>
              <a:off x="685800" y="3914640"/>
              <a:ext cx="4157280" cy="828360"/>
            </a:xfrm>
            <a:prstGeom prst="ellipse">
              <a:avLst/>
            </a:prstGeom>
            <a:solidFill>
              <a:srgbClr val="c9c9c9"/>
            </a:solidFill>
            <a:ln w="127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45720" rIns="45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Calibri"/>
              </a:endParaRPr>
            </a:p>
          </p:txBody>
        </p:sp>
        <p:sp>
          <p:nvSpPr>
            <p:cNvPr id="114" name="HEMOCONCENTRACIÓN…"/>
            <p:cNvSpPr/>
            <p:nvPr/>
          </p:nvSpPr>
          <p:spPr>
            <a:xfrm>
              <a:off x="1346760" y="4009320"/>
              <a:ext cx="2835360" cy="63936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45720" rIns="457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3b3838"/>
                  </a:solidFill>
                  <a:latin typeface="Calibri"/>
                  <a:ea typeface="Calibri"/>
                </a:rPr>
                <a:t>HEMOCONCENTR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3b3838"/>
                  </a:solidFill>
                  <a:latin typeface="Calibri"/>
                  <a:ea typeface="Calibri"/>
                </a:rPr>
                <a:t> </a:t>
              </a:r>
              <a:r>
                <a:rPr b="0" lang="en-US" sz="1800" spc="-1" strike="noStrike">
                  <a:solidFill>
                    <a:srgbClr val="3b3838"/>
                  </a:solidFill>
                  <a:latin typeface="Calibri"/>
                  <a:ea typeface="Calibri"/>
                </a:rPr>
                <a:t>(Hto 65,8%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Elipse 6"/>
          <p:cNvGrpSpPr/>
          <p:nvPr/>
        </p:nvGrpSpPr>
        <p:grpSpPr>
          <a:xfrm>
            <a:off x="685800" y="5600520"/>
            <a:ext cx="4109760" cy="728280"/>
            <a:chOff x="685800" y="5600520"/>
            <a:chExt cx="4109760" cy="728280"/>
          </a:xfrm>
        </p:grpSpPr>
        <p:sp>
          <p:nvSpPr>
            <p:cNvPr id="116" name="Óvalo"/>
            <p:cNvSpPr/>
            <p:nvPr/>
          </p:nvSpPr>
          <p:spPr>
            <a:xfrm>
              <a:off x="685800" y="5600520"/>
              <a:ext cx="4109760" cy="728280"/>
            </a:xfrm>
            <a:prstGeom prst="ellipse">
              <a:avLst/>
            </a:prstGeom>
            <a:solidFill>
              <a:srgbClr val="b4c7e7"/>
            </a:solidFill>
            <a:ln w="127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45720" rIns="45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Calibri"/>
              </a:endParaRPr>
            </a:p>
          </p:txBody>
        </p:sp>
        <p:sp>
          <p:nvSpPr>
            <p:cNvPr id="117" name="HIPOTENSIÓN…"/>
            <p:cNvSpPr/>
            <p:nvPr/>
          </p:nvSpPr>
          <p:spPr>
            <a:xfrm>
              <a:off x="1339920" y="5645160"/>
              <a:ext cx="2801880" cy="63936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45720" rIns="457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3b3838"/>
                  </a:solidFill>
                  <a:latin typeface="Calibri"/>
                  <a:ea typeface="Calibri"/>
                </a:rPr>
                <a:t>HIPOTENS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3b3838"/>
                  </a:solidFill>
                  <a:latin typeface="Calibri"/>
                  <a:ea typeface="Calibri"/>
                </a:rPr>
                <a:t>(TA 80/4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Elipse 7"/>
          <p:cNvGrpSpPr/>
          <p:nvPr/>
        </p:nvGrpSpPr>
        <p:grpSpPr>
          <a:xfrm>
            <a:off x="1909800" y="1921680"/>
            <a:ext cx="1709280" cy="4814640"/>
            <a:chOff x="1909800" y="1921680"/>
            <a:chExt cx="1709280" cy="4814640"/>
          </a:xfrm>
        </p:grpSpPr>
        <p:sp>
          <p:nvSpPr>
            <p:cNvPr id="119" name="Óvalo"/>
            <p:cNvSpPr/>
            <p:nvPr/>
          </p:nvSpPr>
          <p:spPr>
            <a:xfrm>
              <a:off x="1909800" y="1921680"/>
              <a:ext cx="1709280" cy="4814640"/>
            </a:xfrm>
            <a:prstGeom prst="ellipse">
              <a:avLst/>
            </a:prstGeom>
            <a:solidFill>
              <a:srgbClr val="ff0000"/>
            </a:solidFill>
            <a:ln w="127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45720" rIns="45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Calibri"/>
              </a:endParaRPr>
            </a:p>
          </p:txBody>
        </p:sp>
        <p:sp>
          <p:nvSpPr>
            <p:cNvPr id="120" name="SHOCK…"/>
            <p:cNvSpPr/>
            <p:nvPr/>
          </p:nvSpPr>
          <p:spPr>
            <a:xfrm>
              <a:off x="2212200" y="3871800"/>
              <a:ext cx="1104480" cy="91368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45720" rIns="457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3b3838"/>
                  </a:solidFill>
                  <a:latin typeface="Calibri"/>
                  <a:ea typeface="Calibri"/>
                </a:rPr>
                <a:t>SHO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3b3838"/>
                  </a:solidFill>
                  <a:latin typeface="Calibri"/>
                  <a:ea typeface="Calibri"/>
                </a:rPr>
                <a:t>INDIFE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3b3838"/>
                  </a:solidFill>
                  <a:latin typeface="Calibri"/>
                  <a:ea typeface="Calibri"/>
                </a:rPr>
                <a:t>RENCI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iterate type="el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iterate type="el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iterate type="el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iterate type="el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Tema de Office">
  <a:themeElements>
    <a:clrScheme name="Tema de Office">
      <a:dk1>
        <a:srgbClr val="000000"/>
      </a:dk1>
      <a:lt1>
        <a:srgbClr val="ffffff"/>
      </a:lt1>
      <a:dk2>
        <a:srgbClr val="a7a7a7"/>
      </a:dk2>
      <a:lt2>
        <a:srgbClr val="535353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000ff"/>
      </a:hlink>
      <a:folHlink>
        <a:srgbClr val="ff00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ema de Office">
  <a:themeElements>
    <a:clrScheme name="Tema de Office">
      <a:dk1>
        <a:srgbClr val="000000"/>
      </a:dk1>
      <a:lt1>
        <a:srgbClr val="ffffff"/>
      </a:lt1>
      <a:dk2>
        <a:srgbClr val="a7a7a7"/>
      </a:dk2>
      <a:lt2>
        <a:srgbClr val="535353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000ff"/>
      </a:hlink>
      <a:folHlink>
        <a:srgbClr val="ff00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a7a7a7"/>
      </a:dk2>
      <a:lt2>
        <a:srgbClr val="535353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000ff"/>
      </a:hlink>
      <a:folHlink>
        <a:srgbClr val="ff00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